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064-6038-4E58-8DE9-87DBE183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932-C6A4-4014-9234-E5E93FF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726-07D8-43BD-85C0-8724C939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291-FED4-4B13-B2FE-03409BB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03E-B582-4CAF-9D99-EC64685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AEC-4FBF-45D3-9949-EF564FE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AAF-5BB0-4AA5-9145-C7B82D74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486-5F60-4BBA-9447-3E085AA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538-4A95-469A-8713-B76F9FA7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828-068D-4F89-ABC1-9E1E2F9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294-F805-4683-BEDE-A4075CA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4E3-C452-4DE0-9529-398E269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DBEB-4B7B-4C1F-B265-B80AB9B63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175284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200400"/>
            <a:ext cx="9903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72320" y="2627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y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38800" y="4379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y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429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y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05320" y="3160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y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tangular Prism – A solid, formed by rectangles, that has two congruent bases lying in parallel p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area – The sum of the areas of the outside surfaces of a solid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of a 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h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op, bottom, left, right, front, and back and AD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0200" y="2608200"/>
            <a:ext cx="500040" cy="142920"/>
          </a:xfrm>
          <a:custGeom>
            <a:avLst/>
            <a:gdLst/>
            <a:ahLst/>
            <a:rect l="l" t="t" r="r" b="b"/>
            <a:pathLst>
              <a:path w="1390" h="398">
                <a:moveTo>
                  <a:pt x="16793" y="7441"/>
                </a:moveTo>
                <a:cubicBezTo>
                  <a:pt x="16801" y="7433"/>
                  <a:pt x="16810" y="7425"/>
                  <a:pt x="16818" y="7417"/>
                </a:cubicBezTo>
                <a:cubicBezTo>
                  <a:pt x="16806" y="7417"/>
                  <a:pt x="16612" y="7446"/>
                  <a:pt x="16694" y="7491"/>
                </a:cubicBezTo>
                <a:cubicBezTo>
                  <a:pt x="16745" y="7519"/>
                  <a:pt x="16882" y="7491"/>
                  <a:pt x="16942" y="7491"/>
                </a:cubicBezTo>
                <a:cubicBezTo>
                  <a:pt x="16930" y="7562"/>
                  <a:pt x="16912" y="7611"/>
                  <a:pt x="16842" y="7640"/>
                </a:cubicBezTo>
                <a:cubicBezTo>
                  <a:pt x="16834" y="7640"/>
                  <a:pt x="16826" y="7640"/>
                  <a:pt x="16818" y="7640"/>
                </a:cubicBezTo>
              </a:path>
              <a:path w="1390" h="398">
                <a:moveTo>
                  <a:pt x="17041" y="7392"/>
                </a:moveTo>
                <a:cubicBezTo>
                  <a:pt x="17077" y="7448"/>
                  <a:pt x="17103" y="7480"/>
                  <a:pt x="17115" y="7541"/>
                </a:cubicBezTo>
              </a:path>
              <a:path w="1390" h="398">
                <a:moveTo>
                  <a:pt x="17041" y="7367"/>
                </a:moveTo>
                <a:cubicBezTo>
                  <a:pt x="17049" y="7359"/>
                  <a:pt x="17058" y="7350"/>
                  <a:pt x="17066" y="7342"/>
                </a:cubicBezTo>
              </a:path>
              <a:path w="1390" h="398">
                <a:moveTo>
                  <a:pt x="17066" y="7342"/>
                </a:moveTo>
                <a:lnTo>
                  <a:pt x="17066" y="7342"/>
                </a:lnTo>
              </a:path>
              <a:path w="1390" h="398">
                <a:moveTo>
                  <a:pt x="17388" y="7417"/>
                </a:moveTo>
                <a:cubicBezTo>
                  <a:pt x="17361" y="7336"/>
                  <a:pt x="17264" y="7447"/>
                  <a:pt x="17239" y="7491"/>
                </a:cubicBezTo>
                <a:cubicBezTo>
                  <a:pt x="17129" y="7685"/>
                  <a:pt x="17359" y="7561"/>
                  <a:pt x="17413" y="7516"/>
                </a:cubicBezTo>
              </a:path>
              <a:path w="1390" h="398">
                <a:moveTo>
                  <a:pt x="17338" y="7243"/>
                </a:moveTo>
                <a:cubicBezTo>
                  <a:pt x="17378" y="7314"/>
                  <a:pt x="17428" y="7437"/>
                  <a:pt x="17487" y="7491"/>
                </a:cubicBezTo>
                <a:cubicBezTo>
                  <a:pt x="17495" y="7491"/>
                  <a:pt x="17504" y="7491"/>
                  <a:pt x="17512" y="7491"/>
                </a:cubicBezTo>
              </a:path>
              <a:path w="1390" h="398">
                <a:moveTo>
                  <a:pt x="17562" y="7392"/>
                </a:moveTo>
                <a:cubicBezTo>
                  <a:pt x="17636" y="7342"/>
                  <a:pt x="17661" y="7325"/>
                  <a:pt x="17686" y="7268"/>
                </a:cubicBezTo>
                <a:cubicBezTo>
                  <a:pt x="17655" y="7274"/>
                  <a:pt x="17453" y="7357"/>
                  <a:pt x="17587" y="7417"/>
                </a:cubicBezTo>
                <a:cubicBezTo>
                  <a:pt x="17612" y="7417"/>
                  <a:pt x="17636" y="7417"/>
                  <a:pt x="17661" y="7417"/>
                </a:cubicBezTo>
              </a:path>
              <a:path w="1390" h="398">
                <a:moveTo>
                  <a:pt x="17884" y="7243"/>
                </a:moveTo>
                <a:cubicBezTo>
                  <a:pt x="17946" y="7243"/>
                  <a:pt x="18014" y="7242"/>
                  <a:pt x="18058" y="7293"/>
                </a:cubicBezTo>
                <a:cubicBezTo>
                  <a:pt x="18130" y="7376"/>
                  <a:pt x="18011" y="7393"/>
                  <a:pt x="17959" y="741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43840" y="2160720"/>
            <a:ext cx="295200" cy="277560"/>
          </a:xfrm>
          <a:custGeom>
            <a:avLst/>
            <a:gdLst/>
            <a:ahLst/>
            <a:rect l="l" t="t" r="r" b="b"/>
            <a:pathLst>
              <a:path w="819" h="770">
                <a:moveTo>
                  <a:pt x="20017" y="6003"/>
                </a:moveTo>
                <a:cubicBezTo>
                  <a:pt x="20017" y="6213"/>
                  <a:pt x="19985" y="6373"/>
                  <a:pt x="19918" y="6573"/>
                </a:cubicBezTo>
                <a:cubicBezTo>
                  <a:pt x="19895" y="6642"/>
                  <a:pt x="19858" y="6704"/>
                  <a:pt x="19844" y="6772"/>
                </a:cubicBezTo>
              </a:path>
              <a:path w="819" h="770">
                <a:moveTo>
                  <a:pt x="20389" y="6325"/>
                </a:moveTo>
                <a:cubicBezTo>
                  <a:pt x="20445" y="6311"/>
                  <a:pt x="20597" y="6230"/>
                  <a:pt x="20662" y="6276"/>
                </a:cubicBezTo>
                <a:cubicBezTo>
                  <a:pt x="20662" y="6284"/>
                  <a:pt x="20662" y="6292"/>
                  <a:pt x="20662" y="6300"/>
                </a:cubicBezTo>
              </a:path>
              <a:path w="819" h="770">
                <a:moveTo>
                  <a:pt x="20290" y="6573"/>
                </a:moveTo>
                <a:cubicBezTo>
                  <a:pt x="20382" y="6568"/>
                  <a:pt x="20471" y="6556"/>
                  <a:pt x="20563" y="65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6240" y="2017800"/>
            <a:ext cx="839880" cy="554040"/>
          </a:xfrm>
          <a:custGeom>
            <a:avLst/>
            <a:gdLst/>
            <a:ahLst/>
            <a:rect l="l" t="t" r="r" b="b"/>
            <a:pathLst>
              <a:path w="2333" h="1539">
                <a:moveTo>
                  <a:pt x="21208" y="5904"/>
                </a:moveTo>
                <a:cubicBezTo>
                  <a:pt x="21208" y="5872"/>
                  <a:pt x="21184" y="6405"/>
                  <a:pt x="21183" y="6424"/>
                </a:cubicBezTo>
                <a:cubicBezTo>
                  <a:pt x="21183" y="6581"/>
                  <a:pt x="21183" y="6606"/>
                  <a:pt x="21183" y="6697"/>
                </a:cubicBezTo>
              </a:path>
              <a:path w="2333" h="1539">
                <a:moveTo>
                  <a:pt x="21456" y="6375"/>
                </a:moveTo>
                <a:cubicBezTo>
                  <a:pt x="21594" y="6340"/>
                  <a:pt x="21686" y="6325"/>
                  <a:pt x="21828" y="6325"/>
                </a:cubicBezTo>
                <a:cubicBezTo>
                  <a:pt x="21816" y="6279"/>
                  <a:pt x="21711" y="6141"/>
                  <a:pt x="21654" y="6152"/>
                </a:cubicBezTo>
                <a:cubicBezTo>
                  <a:pt x="21489" y="6183"/>
                  <a:pt x="21342" y="6555"/>
                  <a:pt x="21406" y="6697"/>
                </a:cubicBezTo>
                <a:cubicBezTo>
                  <a:pt x="21508" y="6774"/>
                  <a:pt x="21544" y="6798"/>
                  <a:pt x="21630" y="6722"/>
                </a:cubicBezTo>
              </a:path>
              <a:path w="2333" h="1539">
                <a:moveTo>
                  <a:pt x="21977" y="6300"/>
                </a:moveTo>
                <a:cubicBezTo>
                  <a:pt x="21979" y="6364"/>
                  <a:pt x="22053" y="6699"/>
                  <a:pt x="21977" y="6598"/>
                </a:cubicBezTo>
                <a:cubicBezTo>
                  <a:pt x="21983" y="6546"/>
                  <a:pt x="22030" y="6094"/>
                  <a:pt x="22175" y="6201"/>
                </a:cubicBezTo>
                <a:cubicBezTo>
                  <a:pt x="22335" y="6319"/>
                  <a:pt x="22312" y="6562"/>
                  <a:pt x="22225" y="6697"/>
                </a:cubicBezTo>
              </a:path>
              <a:path w="2333" h="1539">
                <a:moveTo>
                  <a:pt x="22622" y="6449"/>
                </a:moveTo>
                <a:cubicBezTo>
                  <a:pt x="22630" y="6359"/>
                  <a:pt x="22637" y="6312"/>
                  <a:pt x="22622" y="6226"/>
                </a:cubicBezTo>
                <a:cubicBezTo>
                  <a:pt x="22427" y="6244"/>
                  <a:pt x="22288" y="6350"/>
                  <a:pt x="22299" y="6573"/>
                </a:cubicBezTo>
                <a:cubicBezTo>
                  <a:pt x="22312" y="6829"/>
                  <a:pt x="22598" y="6442"/>
                  <a:pt x="22622" y="6375"/>
                </a:cubicBezTo>
                <a:cubicBezTo>
                  <a:pt x="22622" y="6367"/>
                  <a:pt x="22622" y="6358"/>
                  <a:pt x="22622" y="6350"/>
                </a:cubicBezTo>
                <a:cubicBezTo>
                  <a:pt x="22654" y="6561"/>
                  <a:pt x="22738" y="6770"/>
                  <a:pt x="22597" y="6970"/>
                </a:cubicBezTo>
                <a:cubicBezTo>
                  <a:pt x="22353" y="7315"/>
                  <a:pt x="22202" y="7115"/>
                  <a:pt x="22250" y="6821"/>
                </a:cubicBezTo>
              </a:path>
              <a:path w="2333" h="1539">
                <a:moveTo>
                  <a:pt x="22920" y="5606"/>
                </a:moveTo>
                <a:cubicBezTo>
                  <a:pt x="22920" y="5922"/>
                  <a:pt x="22917" y="6234"/>
                  <a:pt x="22895" y="6548"/>
                </a:cubicBezTo>
                <a:cubicBezTo>
                  <a:pt x="22895" y="6590"/>
                  <a:pt x="22895" y="6615"/>
                  <a:pt x="22895" y="6573"/>
                </a:cubicBezTo>
              </a:path>
              <a:path w="2333" h="1539">
                <a:moveTo>
                  <a:pt x="22696" y="6127"/>
                </a:moveTo>
                <a:cubicBezTo>
                  <a:pt x="22879" y="6211"/>
                  <a:pt x="23087" y="6234"/>
                  <a:pt x="23192" y="6003"/>
                </a:cubicBezTo>
                <a:cubicBezTo>
                  <a:pt x="23212" y="5863"/>
                  <a:pt x="23221" y="5839"/>
                  <a:pt x="23217" y="5755"/>
                </a:cubicBezTo>
                <a:cubicBezTo>
                  <a:pt x="23217" y="5970"/>
                  <a:pt x="23217" y="6185"/>
                  <a:pt x="23217" y="6400"/>
                </a:cubicBezTo>
                <a:cubicBezTo>
                  <a:pt x="23231" y="6335"/>
                  <a:pt x="23355" y="5780"/>
                  <a:pt x="23490" y="6077"/>
                </a:cubicBezTo>
                <a:cubicBezTo>
                  <a:pt x="23560" y="6231"/>
                  <a:pt x="23544" y="6499"/>
                  <a:pt x="23391" y="64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2143080"/>
            <a:ext cx="652680" cy="169920"/>
          </a:xfrm>
          <a:custGeom>
            <a:avLst/>
            <a:gdLst/>
            <a:ahLst/>
            <a:rect l="l" t="t" r="r" b="b"/>
            <a:pathLst>
              <a:path w="1812" h="472">
                <a:moveTo>
                  <a:pt x="5705" y="6176"/>
                </a:moveTo>
                <a:cubicBezTo>
                  <a:pt x="5705" y="6241"/>
                  <a:pt x="5682" y="6313"/>
                  <a:pt x="5755" y="6350"/>
                </a:cubicBezTo>
                <a:cubicBezTo>
                  <a:pt x="5821" y="6383"/>
                  <a:pt x="5888" y="6265"/>
                  <a:pt x="5904" y="6226"/>
                </a:cubicBezTo>
                <a:cubicBezTo>
                  <a:pt x="5918" y="6299"/>
                  <a:pt x="5958" y="6379"/>
                  <a:pt x="6052" y="6350"/>
                </a:cubicBezTo>
                <a:cubicBezTo>
                  <a:pt x="6148" y="6320"/>
                  <a:pt x="6143" y="6255"/>
                  <a:pt x="6152" y="6176"/>
                </a:cubicBezTo>
              </a:path>
              <a:path w="1812" h="472">
                <a:moveTo>
                  <a:pt x="6375" y="6276"/>
                </a:moveTo>
                <a:cubicBezTo>
                  <a:pt x="6394" y="6350"/>
                  <a:pt x="6402" y="6357"/>
                  <a:pt x="6400" y="6400"/>
                </a:cubicBezTo>
              </a:path>
              <a:path w="1812" h="472">
                <a:moveTo>
                  <a:pt x="6722" y="6226"/>
                </a:moveTo>
                <a:cubicBezTo>
                  <a:pt x="6660" y="6213"/>
                  <a:pt x="6556" y="6179"/>
                  <a:pt x="6524" y="6276"/>
                </a:cubicBezTo>
                <a:cubicBezTo>
                  <a:pt x="6524" y="6365"/>
                  <a:pt x="6517" y="6391"/>
                  <a:pt x="6573" y="6424"/>
                </a:cubicBezTo>
                <a:cubicBezTo>
                  <a:pt x="6698" y="6393"/>
                  <a:pt x="6774" y="6331"/>
                  <a:pt x="6747" y="6176"/>
                </a:cubicBezTo>
                <a:cubicBezTo>
                  <a:pt x="6739" y="6160"/>
                  <a:pt x="6730" y="6143"/>
                  <a:pt x="6722" y="6127"/>
                </a:cubicBezTo>
              </a:path>
              <a:path w="1812" h="472">
                <a:moveTo>
                  <a:pt x="6722" y="6052"/>
                </a:moveTo>
                <a:cubicBezTo>
                  <a:pt x="6734" y="6125"/>
                  <a:pt x="6746" y="6234"/>
                  <a:pt x="6772" y="6300"/>
                </a:cubicBezTo>
                <a:cubicBezTo>
                  <a:pt x="6780" y="6308"/>
                  <a:pt x="6788" y="6317"/>
                  <a:pt x="6796" y="6325"/>
                </a:cubicBezTo>
              </a:path>
              <a:path w="1812" h="472">
                <a:moveTo>
                  <a:pt x="7020" y="6003"/>
                </a:moveTo>
                <a:cubicBezTo>
                  <a:pt x="7053" y="6118"/>
                  <a:pt x="7071" y="6235"/>
                  <a:pt x="7094" y="6350"/>
                </a:cubicBezTo>
                <a:cubicBezTo>
                  <a:pt x="7094" y="6342"/>
                  <a:pt x="7094" y="6333"/>
                  <a:pt x="7094" y="6325"/>
                </a:cubicBezTo>
              </a:path>
              <a:path w="1812" h="472">
                <a:moveTo>
                  <a:pt x="6970" y="6226"/>
                </a:moveTo>
                <a:cubicBezTo>
                  <a:pt x="7145" y="6218"/>
                  <a:pt x="7161" y="6227"/>
                  <a:pt x="7293" y="6127"/>
                </a:cubicBezTo>
              </a:path>
              <a:path w="1812" h="472">
                <a:moveTo>
                  <a:pt x="7293" y="6028"/>
                </a:moveTo>
                <a:cubicBezTo>
                  <a:pt x="7293" y="6111"/>
                  <a:pt x="7293" y="6193"/>
                  <a:pt x="7293" y="6276"/>
                </a:cubicBezTo>
                <a:cubicBezTo>
                  <a:pt x="7347" y="6257"/>
                  <a:pt x="7346" y="6106"/>
                  <a:pt x="7441" y="6176"/>
                </a:cubicBezTo>
                <a:cubicBezTo>
                  <a:pt x="7527" y="6240"/>
                  <a:pt x="7506" y="6344"/>
                  <a:pt x="7491" y="6424"/>
                </a:cubicBezTo>
              </a:path>
              <a:path w="1812" h="472">
                <a:moveTo>
                  <a:pt x="6400" y="5978"/>
                </a:moveTo>
                <a:cubicBezTo>
                  <a:pt x="6400" y="5970"/>
                  <a:pt x="6400" y="5961"/>
                  <a:pt x="6400" y="595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9840" y="2598840"/>
            <a:ext cx="384120" cy="231840"/>
          </a:xfrm>
          <a:custGeom>
            <a:avLst/>
            <a:gdLst/>
            <a:ahLst/>
            <a:rect l="l" t="t" r="r" b="b"/>
            <a:pathLst>
              <a:path w="1068" h="646">
                <a:moveTo>
                  <a:pt x="19720" y="7218"/>
                </a:moveTo>
                <a:cubicBezTo>
                  <a:pt x="19714" y="7266"/>
                  <a:pt x="19640" y="7754"/>
                  <a:pt x="19769" y="7714"/>
                </a:cubicBezTo>
                <a:cubicBezTo>
                  <a:pt x="19834" y="7694"/>
                  <a:pt x="20042" y="7365"/>
                  <a:pt x="19993" y="7317"/>
                </a:cubicBezTo>
                <a:cubicBezTo>
                  <a:pt x="19985" y="7325"/>
                  <a:pt x="19976" y="7334"/>
                  <a:pt x="19968" y="7342"/>
                </a:cubicBezTo>
                <a:cubicBezTo>
                  <a:pt x="19961" y="7571"/>
                  <a:pt x="19969" y="7657"/>
                  <a:pt x="20067" y="7863"/>
                </a:cubicBezTo>
                <a:cubicBezTo>
                  <a:pt x="20318" y="7751"/>
                  <a:pt x="20316" y="7605"/>
                  <a:pt x="20216" y="7342"/>
                </a:cubicBezTo>
                <a:cubicBezTo>
                  <a:pt x="20208" y="7334"/>
                  <a:pt x="20199" y="7325"/>
                  <a:pt x="20191" y="7317"/>
                </a:cubicBezTo>
              </a:path>
              <a:path w="1068" h="646">
                <a:moveTo>
                  <a:pt x="20489" y="7441"/>
                </a:moveTo>
                <a:cubicBezTo>
                  <a:pt x="20606" y="7390"/>
                  <a:pt x="20729" y="7279"/>
                  <a:pt x="20712" y="7417"/>
                </a:cubicBezTo>
              </a:path>
              <a:path w="1068" h="646">
                <a:moveTo>
                  <a:pt x="20538" y="7665"/>
                </a:moveTo>
                <a:cubicBezTo>
                  <a:pt x="20654" y="7642"/>
                  <a:pt x="20688" y="7635"/>
                  <a:pt x="20762" y="761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05800" y="2500200"/>
            <a:ext cx="750960" cy="268560"/>
          </a:xfrm>
          <a:custGeom>
            <a:avLst/>
            <a:gdLst/>
            <a:ahLst/>
            <a:rect l="l" t="t" r="r" b="b"/>
            <a:pathLst>
              <a:path w="2085" h="745">
                <a:moveTo>
                  <a:pt x="21406" y="7243"/>
                </a:moveTo>
                <a:cubicBezTo>
                  <a:pt x="21406" y="7401"/>
                  <a:pt x="21410" y="7518"/>
                  <a:pt x="21456" y="7665"/>
                </a:cubicBezTo>
                <a:cubicBezTo>
                  <a:pt x="21645" y="7627"/>
                  <a:pt x="21642" y="7554"/>
                  <a:pt x="21704" y="7367"/>
                </a:cubicBezTo>
                <a:cubicBezTo>
                  <a:pt x="21704" y="7464"/>
                  <a:pt x="21669" y="7671"/>
                  <a:pt x="21828" y="7640"/>
                </a:cubicBezTo>
                <a:cubicBezTo>
                  <a:pt x="22030" y="7600"/>
                  <a:pt x="21935" y="7407"/>
                  <a:pt x="21878" y="7293"/>
                </a:cubicBezTo>
              </a:path>
              <a:path w="2085" h="745">
                <a:moveTo>
                  <a:pt x="22175" y="7342"/>
                </a:moveTo>
                <a:cubicBezTo>
                  <a:pt x="22175" y="7499"/>
                  <a:pt x="22175" y="7541"/>
                  <a:pt x="22175" y="7640"/>
                </a:cubicBezTo>
              </a:path>
              <a:path w="2085" h="745">
                <a:moveTo>
                  <a:pt x="22002" y="7144"/>
                </a:moveTo>
                <a:cubicBezTo>
                  <a:pt x="22018" y="7144"/>
                  <a:pt x="22035" y="7144"/>
                  <a:pt x="22051" y="7144"/>
                </a:cubicBezTo>
              </a:path>
              <a:path w="2085" h="745">
                <a:moveTo>
                  <a:pt x="22051" y="7144"/>
                </a:moveTo>
                <a:lnTo>
                  <a:pt x="22051" y="7144"/>
                </a:lnTo>
              </a:path>
              <a:path w="2085" h="745">
                <a:moveTo>
                  <a:pt x="22473" y="7392"/>
                </a:moveTo>
                <a:cubicBezTo>
                  <a:pt x="22506" y="7315"/>
                  <a:pt x="22515" y="7337"/>
                  <a:pt x="22448" y="7293"/>
                </a:cubicBezTo>
                <a:cubicBezTo>
                  <a:pt x="22263" y="7406"/>
                  <a:pt x="22230" y="7489"/>
                  <a:pt x="22275" y="7689"/>
                </a:cubicBezTo>
                <a:cubicBezTo>
                  <a:pt x="22469" y="7653"/>
                  <a:pt x="22521" y="7577"/>
                  <a:pt x="22597" y="7392"/>
                </a:cubicBezTo>
              </a:path>
              <a:path w="2085" h="745">
                <a:moveTo>
                  <a:pt x="22523" y="7020"/>
                </a:moveTo>
                <a:cubicBezTo>
                  <a:pt x="22523" y="7213"/>
                  <a:pt x="22529" y="7399"/>
                  <a:pt x="22547" y="7590"/>
                </a:cubicBezTo>
                <a:cubicBezTo>
                  <a:pt x="22547" y="7618"/>
                  <a:pt x="22549" y="7624"/>
                  <a:pt x="22572" y="7590"/>
                </a:cubicBezTo>
              </a:path>
              <a:path w="2085" h="745">
                <a:moveTo>
                  <a:pt x="22796" y="6945"/>
                </a:moveTo>
                <a:cubicBezTo>
                  <a:pt x="22801" y="7079"/>
                  <a:pt x="22746" y="7511"/>
                  <a:pt x="22820" y="7615"/>
                </a:cubicBezTo>
                <a:cubicBezTo>
                  <a:pt x="22828" y="7590"/>
                  <a:pt x="22837" y="7566"/>
                  <a:pt x="22845" y="7541"/>
                </a:cubicBezTo>
              </a:path>
              <a:path w="2085" h="745">
                <a:moveTo>
                  <a:pt x="22622" y="7293"/>
                </a:moveTo>
                <a:cubicBezTo>
                  <a:pt x="22776" y="7341"/>
                  <a:pt x="23002" y="7394"/>
                  <a:pt x="23118" y="7218"/>
                </a:cubicBezTo>
                <a:cubicBezTo>
                  <a:pt x="23159" y="7095"/>
                  <a:pt x="23176" y="7073"/>
                  <a:pt x="23168" y="6995"/>
                </a:cubicBezTo>
                <a:cubicBezTo>
                  <a:pt x="23168" y="7152"/>
                  <a:pt x="23168" y="7309"/>
                  <a:pt x="23168" y="7466"/>
                </a:cubicBezTo>
                <a:cubicBezTo>
                  <a:pt x="23202" y="7327"/>
                  <a:pt x="23227" y="7326"/>
                  <a:pt x="23316" y="7218"/>
                </a:cubicBezTo>
                <a:cubicBezTo>
                  <a:pt x="23400" y="7260"/>
                  <a:pt x="23580" y="7401"/>
                  <a:pt x="23490" y="7541"/>
                </a:cubicBezTo>
                <a:cubicBezTo>
                  <a:pt x="23473" y="7541"/>
                  <a:pt x="23457" y="7541"/>
                  <a:pt x="23440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51080" y="2527200"/>
            <a:ext cx="463680" cy="258840"/>
          </a:xfrm>
          <a:custGeom>
            <a:avLst/>
            <a:gdLst/>
            <a:ahLst/>
            <a:rect l="l" t="t" r="r" b="b"/>
            <a:pathLst>
              <a:path w="1291" h="720">
                <a:moveTo>
                  <a:pt x="6251" y="7268"/>
                </a:moveTo>
                <a:cubicBezTo>
                  <a:pt x="6265" y="7383"/>
                  <a:pt x="6303" y="7523"/>
                  <a:pt x="6276" y="7640"/>
                </a:cubicBezTo>
                <a:cubicBezTo>
                  <a:pt x="6268" y="7648"/>
                  <a:pt x="6259" y="7657"/>
                  <a:pt x="6251" y="7665"/>
                </a:cubicBezTo>
                <a:cubicBezTo>
                  <a:pt x="6251" y="7586"/>
                  <a:pt x="6238" y="7513"/>
                  <a:pt x="6276" y="7441"/>
                </a:cubicBezTo>
                <a:cubicBezTo>
                  <a:pt x="6334" y="7332"/>
                  <a:pt x="6418" y="7515"/>
                  <a:pt x="6424" y="7541"/>
                </a:cubicBezTo>
                <a:cubicBezTo>
                  <a:pt x="6431" y="7571"/>
                  <a:pt x="6424" y="7629"/>
                  <a:pt x="6424" y="7665"/>
                </a:cubicBezTo>
              </a:path>
              <a:path w="1291" h="720">
                <a:moveTo>
                  <a:pt x="6548" y="7466"/>
                </a:moveTo>
                <a:cubicBezTo>
                  <a:pt x="6603" y="7444"/>
                  <a:pt x="6658" y="7435"/>
                  <a:pt x="6672" y="7392"/>
                </a:cubicBezTo>
                <a:cubicBezTo>
                  <a:pt x="6591" y="7359"/>
                  <a:pt x="6531" y="7444"/>
                  <a:pt x="6548" y="7541"/>
                </a:cubicBezTo>
                <a:cubicBezTo>
                  <a:pt x="6561" y="7614"/>
                  <a:pt x="6663" y="7573"/>
                  <a:pt x="6697" y="7565"/>
                </a:cubicBezTo>
              </a:path>
              <a:path w="1291" h="720">
                <a:moveTo>
                  <a:pt x="6772" y="7392"/>
                </a:moveTo>
                <a:cubicBezTo>
                  <a:pt x="6780" y="7443"/>
                  <a:pt x="6794" y="7475"/>
                  <a:pt x="6821" y="7516"/>
                </a:cubicBezTo>
              </a:path>
              <a:path w="1291" h="720">
                <a:moveTo>
                  <a:pt x="6772" y="7268"/>
                </a:moveTo>
                <a:cubicBezTo>
                  <a:pt x="6764" y="7268"/>
                  <a:pt x="6755" y="7268"/>
                  <a:pt x="6747" y="7268"/>
                </a:cubicBezTo>
              </a:path>
              <a:path w="1291" h="720">
                <a:moveTo>
                  <a:pt x="6747" y="7268"/>
                </a:moveTo>
                <a:lnTo>
                  <a:pt x="6747" y="7268"/>
                </a:lnTo>
              </a:path>
              <a:path w="1291" h="720">
                <a:moveTo>
                  <a:pt x="6970" y="7342"/>
                </a:moveTo>
                <a:cubicBezTo>
                  <a:pt x="6929" y="7363"/>
                  <a:pt x="6868" y="7454"/>
                  <a:pt x="6896" y="7516"/>
                </a:cubicBezTo>
                <a:cubicBezTo>
                  <a:pt x="6918" y="7565"/>
                  <a:pt x="6994" y="7369"/>
                  <a:pt x="6995" y="7367"/>
                </a:cubicBezTo>
                <a:cubicBezTo>
                  <a:pt x="6995" y="7375"/>
                  <a:pt x="6995" y="7384"/>
                  <a:pt x="6995" y="7392"/>
                </a:cubicBezTo>
                <a:cubicBezTo>
                  <a:pt x="7024" y="7505"/>
                  <a:pt x="7020" y="7618"/>
                  <a:pt x="7020" y="7739"/>
                </a:cubicBezTo>
                <a:cubicBezTo>
                  <a:pt x="7020" y="7731"/>
                  <a:pt x="7020" y="7722"/>
                  <a:pt x="7020" y="7714"/>
                </a:cubicBezTo>
              </a:path>
              <a:path w="1291" h="720">
                <a:moveTo>
                  <a:pt x="7020" y="7268"/>
                </a:moveTo>
                <a:cubicBezTo>
                  <a:pt x="7041" y="7350"/>
                  <a:pt x="7049" y="7366"/>
                  <a:pt x="7045" y="7417"/>
                </a:cubicBezTo>
                <a:cubicBezTo>
                  <a:pt x="7063" y="7392"/>
                  <a:pt x="7054" y="7297"/>
                  <a:pt x="7119" y="7268"/>
                </a:cubicBezTo>
                <a:cubicBezTo>
                  <a:pt x="7153" y="7253"/>
                  <a:pt x="7142" y="7243"/>
                  <a:pt x="7193" y="7243"/>
                </a:cubicBezTo>
                <a:cubicBezTo>
                  <a:pt x="7257" y="7243"/>
                  <a:pt x="7283" y="7340"/>
                  <a:pt x="7293" y="7392"/>
                </a:cubicBezTo>
              </a:path>
              <a:path w="1291" h="720">
                <a:moveTo>
                  <a:pt x="7020" y="7069"/>
                </a:moveTo>
                <a:cubicBezTo>
                  <a:pt x="7033" y="7171"/>
                  <a:pt x="7068" y="7249"/>
                  <a:pt x="7094" y="7342"/>
                </a:cubicBezTo>
              </a:path>
              <a:path w="1291" h="720">
                <a:moveTo>
                  <a:pt x="7342" y="7020"/>
                </a:moveTo>
                <a:cubicBezTo>
                  <a:pt x="7386" y="7119"/>
                  <a:pt x="7424" y="7210"/>
                  <a:pt x="7441" y="7317"/>
                </a:cubicBezTo>
              </a:path>
              <a:path w="1291" h="720">
                <a:moveTo>
                  <a:pt x="7293" y="7243"/>
                </a:moveTo>
                <a:cubicBezTo>
                  <a:pt x="7374" y="7198"/>
                  <a:pt x="7451" y="7137"/>
                  <a:pt x="7541" y="711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2652840"/>
            <a:ext cx="714600" cy="312480"/>
          </a:xfrm>
          <a:custGeom>
            <a:avLst/>
            <a:gdLst/>
            <a:ahLst/>
            <a:rect l="l" t="t" r="r" b="b"/>
            <a:pathLst>
              <a:path w="1985" h="869">
                <a:moveTo>
                  <a:pt x="10592" y="7417"/>
                </a:moveTo>
                <a:cubicBezTo>
                  <a:pt x="10581" y="7385"/>
                  <a:pt x="10574" y="7378"/>
                  <a:pt x="10542" y="7367"/>
                </a:cubicBezTo>
                <a:cubicBezTo>
                  <a:pt x="10542" y="7431"/>
                  <a:pt x="10558" y="7483"/>
                  <a:pt x="10567" y="7541"/>
                </a:cubicBezTo>
                <a:cubicBezTo>
                  <a:pt x="10567" y="7582"/>
                  <a:pt x="10567" y="7590"/>
                  <a:pt x="10567" y="7615"/>
                </a:cubicBezTo>
              </a:path>
              <a:path w="1985" h="869">
                <a:moveTo>
                  <a:pt x="10393" y="7541"/>
                </a:moveTo>
                <a:cubicBezTo>
                  <a:pt x="10513" y="7507"/>
                  <a:pt x="10616" y="7491"/>
                  <a:pt x="10740" y="7491"/>
                </a:cubicBezTo>
              </a:path>
              <a:path w="1985" h="869">
                <a:moveTo>
                  <a:pt x="10840" y="7441"/>
                </a:moveTo>
                <a:cubicBezTo>
                  <a:pt x="10784" y="7463"/>
                  <a:pt x="10703" y="7548"/>
                  <a:pt x="10815" y="7590"/>
                </a:cubicBezTo>
                <a:cubicBezTo>
                  <a:pt x="10940" y="7637"/>
                  <a:pt x="10977" y="7513"/>
                  <a:pt x="10964" y="7441"/>
                </a:cubicBezTo>
                <a:cubicBezTo>
                  <a:pt x="10964" y="7417"/>
                  <a:pt x="10964" y="7409"/>
                  <a:pt x="10939" y="7417"/>
                </a:cubicBezTo>
              </a:path>
              <a:path w="1985" h="869">
                <a:moveTo>
                  <a:pt x="11088" y="7417"/>
                </a:moveTo>
                <a:cubicBezTo>
                  <a:pt x="11107" y="7514"/>
                  <a:pt x="11144" y="7614"/>
                  <a:pt x="11162" y="7714"/>
                </a:cubicBezTo>
                <a:cubicBezTo>
                  <a:pt x="11162" y="7722"/>
                  <a:pt x="11162" y="7731"/>
                  <a:pt x="11162" y="7739"/>
                </a:cubicBezTo>
              </a:path>
              <a:path w="1985" h="869">
                <a:moveTo>
                  <a:pt x="11088" y="7417"/>
                </a:moveTo>
                <a:cubicBezTo>
                  <a:pt x="11178" y="7380"/>
                  <a:pt x="11266" y="7321"/>
                  <a:pt x="11286" y="7441"/>
                </a:cubicBezTo>
                <a:cubicBezTo>
                  <a:pt x="11297" y="7507"/>
                  <a:pt x="11208" y="7532"/>
                  <a:pt x="11162" y="7541"/>
                </a:cubicBezTo>
              </a:path>
              <a:path w="1985" h="869">
                <a:moveTo>
                  <a:pt x="10046" y="7466"/>
                </a:moveTo>
                <a:cubicBezTo>
                  <a:pt x="9969" y="7485"/>
                  <a:pt x="9935" y="7668"/>
                  <a:pt x="9947" y="7739"/>
                </a:cubicBezTo>
                <a:cubicBezTo>
                  <a:pt x="9956" y="7791"/>
                  <a:pt x="10061" y="7895"/>
                  <a:pt x="10096" y="7913"/>
                </a:cubicBezTo>
              </a:path>
              <a:path w="1985" h="869">
                <a:moveTo>
                  <a:pt x="10244" y="7863"/>
                </a:moveTo>
                <a:cubicBezTo>
                  <a:pt x="10249" y="7955"/>
                  <a:pt x="10261" y="8044"/>
                  <a:pt x="10269" y="8136"/>
                </a:cubicBezTo>
                <a:cubicBezTo>
                  <a:pt x="10285" y="8056"/>
                  <a:pt x="10323" y="7994"/>
                  <a:pt x="10418" y="8012"/>
                </a:cubicBezTo>
                <a:cubicBezTo>
                  <a:pt x="10538" y="8035"/>
                  <a:pt x="10392" y="8220"/>
                  <a:pt x="10344" y="8235"/>
                </a:cubicBezTo>
                <a:cubicBezTo>
                  <a:pt x="10241" y="8268"/>
                  <a:pt x="10251" y="8238"/>
                  <a:pt x="10269" y="8186"/>
                </a:cubicBezTo>
              </a:path>
              <a:path w="1985" h="869">
                <a:moveTo>
                  <a:pt x="10691" y="8012"/>
                </a:moveTo>
                <a:cubicBezTo>
                  <a:pt x="10639" y="8090"/>
                  <a:pt x="10633" y="8113"/>
                  <a:pt x="10691" y="8186"/>
                </a:cubicBezTo>
                <a:cubicBezTo>
                  <a:pt x="10780" y="8141"/>
                  <a:pt x="10742" y="8077"/>
                  <a:pt x="10666" y="8012"/>
                </a:cubicBezTo>
              </a:path>
              <a:path w="1985" h="869">
                <a:moveTo>
                  <a:pt x="10914" y="7739"/>
                </a:moveTo>
                <a:cubicBezTo>
                  <a:pt x="10907" y="7881"/>
                  <a:pt x="10923" y="7947"/>
                  <a:pt x="10964" y="8086"/>
                </a:cubicBezTo>
              </a:path>
              <a:path w="1985" h="869">
                <a:moveTo>
                  <a:pt x="11038" y="7813"/>
                </a:moveTo>
                <a:cubicBezTo>
                  <a:pt x="11046" y="7905"/>
                  <a:pt x="11058" y="7994"/>
                  <a:pt x="11063" y="8086"/>
                </a:cubicBezTo>
              </a:path>
              <a:path w="1985" h="869">
                <a:moveTo>
                  <a:pt x="10790" y="7962"/>
                </a:moveTo>
                <a:cubicBezTo>
                  <a:pt x="10939" y="7917"/>
                  <a:pt x="11082" y="7890"/>
                  <a:pt x="11237" y="7863"/>
                </a:cubicBezTo>
                <a:cubicBezTo>
                  <a:pt x="11236" y="7876"/>
                  <a:pt x="11171" y="8003"/>
                  <a:pt x="11187" y="8111"/>
                </a:cubicBezTo>
                <a:cubicBezTo>
                  <a:pt x="11324" y="8122"/>
                  <a:pt x="11465" y="8066"/>
                  <a:pt x="11311" y="7938"/>
                </a:cubicBezTo>
                <a:cubicBezTo>
                  <a:pt x="11294" y="7930"/>
                  <a:pt x="11278" y="7921"/>
                  <a:pt x="11261" y="7913"/>
                </a:cubicBezTo>
              </a:path>
              <a:path w="1985" h="869">
                <a:moveTo>
                  <a:pt x="11509" y="7987"/>
                </a:moveTo>
                <a:cubicBezTo>
                  <a:pt x="11509" y="8020"/>
                  <a:pt x="11509" y="8053"/>
                  <a:pt x="11509" y="8086"/>
                </a:cubicBezTo>
                <a:cubicBezTo>
                  <a:pt x="11509" y="8118"/>
                  <a:pt x="11546" y="7933"/>
                  <a:pt x="11584" y="7888"/>
                </a:cubicBezTo>
                <a:cubicBezTo>
                  <a:pt x="11656" y="7803"/>
                  <a:pt x="11676" y="7947"/>
                  <a:pt x="11683" y="7987"/>
                </a:cubicBezTo>
                <a:cubicBezTo>
                  <a:pt x="11704" y="7924"/>
                  <a:pt x="11737" y="7889"/>
                  <a:pt x="11782" y="7838"/>
                </a:cubicBezTo>
                <a:cubicBezTo>
                  <a:pt x="11869" y="7903"/>
                  <a:pt x="11931" y="7926"/>
                  <a:pt x="11931" y="803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625840"/>
            <a:ext cx="696960" cy="347400"/>
          </a:xfrm>
          <a:custGeom>
            <a:avLst/>
            <a:gdLst/>
            <a:ahLst/>
            <a:rect l="l" t="t" r="r" b="b"/>
            <a:pathLst>
              <a:path w="1936" h="968">
                <a:moveTo>
                  <a:pt x="13519" y="7367"/>
                </a:moveTo>
                <a:cubicBezTo>
                  <a:pt x="13541" y="7390"/>
                  <a:pt x="13549" y="7401"/>
                  <a:pt x="13543" y="7367"/>
                </a:cubicBezTo>
                <a:cubicBezTo>
                  <a:pt x="13437" y="7356"/>
                  <a:pt x="13324" y="7297"/>
                  <a:pt x="13295" y="7441"/>
                </a:cubicBezTo>
                <a:cubicBezTo>
                  <a:pt x="13262" y="7606"/>
                  <a:pt x="13379" y="7636"/>
                  <a:pt x="13419" y="7764"/>
                </a:cubicBezTo>
                <a:cubicBezTo>
                  <a:pt x="13419" y="7780"/>
                  <a:pt x="13419" y="7797"/>
                  <a:pt x="13419" y="7813"/>
                </a:cubicBezTo>
              </a:path>
              <a:path w="1936" h="968">
                <a:moveTo>
                  <a:pt x="13271" y="7714"/>
                </a:moveTo>
                <a:cubicBezTo>
                  <a:pt x="13344" y="7681"/>
                  <a:pt x="13537" y="7559"/>
                  <a:pt x="13568" y="7590"/>
                </a:cubicBezTo>
                <a:cubicBezTo>
                  <a:pt x="13614" y="7636"/>
                  <a:pt x="13629" y="7648"/>
                  <a:pt x="13643" y="7689"/>
                </a:cubicBezTo>
                <a:cubicBezTo>
                  <a:pt x="13633" y="7631"/>
                  <a:pt x="13592" y="7555"/>
                  <a:pt x="13667" y="7516"/>
                </a:cubicBezTo>
                <a:cubicBezTo>
                  <a:pt x="13692" y="7508"/>
                  <a:pt x="13717" y="7499"/>
                  <a:pt x="13742" y="7491"/>
                </a:cubicBezTo>
              </a:path>
              <a:path w="1936" h="968">
                <a:moveTo>
                  <a:pt x="13915" y="7466"/>
                </a:moveTo>
                <a:cubicBezTo>
                  <a:pt x="13900" y="7543"/>
                  <a:pt x="13857" y="7611"/>
                  <a:pt x="13841" y="7689"/>
                </a:cubicBezTo>
                <a:cubicBezTo>
                  <a:pt x="13896" y="7666"/>
                  <a:pt x="14087" y="7605"/>
                  <a:pt x="13990" y="7516"/>
                </a:cubicBezTo>
                <a:cubicBezTo>
                  <a:pt x="13973" y="7508"/>
                  <a:pt x="13957" y="7499"/>
                  <a:pt x="13940" y="7491"/>
                </a:cubicBezTo>
              </a:path>
              <a:path w="1936" h="968">
                <a:moveTo>
                  <a:pt x="14114" y="7491"/>
                </a:moveTo>
                <a:cubicBezTo>
                  <a:pt x="14139" y="7541"/>
                  <a:pt x="14147" y="7557"/>
                  <a:pt x="14163" y="7590"/>
                </a:cubicBezTo>
                <a:cubicBezTo>
                  <a:pt x="14163" y="7523"/>
                  <a:pt x="14160" y="7472"/>
                  <a:pt x="14188" y="7417"/>
                </a:cubicBezTo>
                <a:cubicBezTo>
                  <a:pt x="14260" y="7445"/>
                  <a:pt x="14278" y="7495"/>
                  <a:pt x="14312" y="7565"/>
                </a:cubicBezTo>
              </a:path>
              <a:path w="1936" h="968">
                <a:moveTo>
                  <a:pt x="14387" y="7293"/>
                </a:moveTo>
                <a:cubicBezTo>
                  <a:pt x="14407" y="7373"/>
                  <a:pt x="14433" y="7489"/>
                  <a:pt x="14511" y="7541"/>
                </a:cubicBezTo>
                <a:cubicBezTo>
                  <a:pt x="14546" y="7541"/>
                  <a:pt x="14563" y="7536"/>
                  <a:pt x="14585" y="7516"/>
                </a:cubicBezTo>
              </a:path>
              <a:path w="1936" h="968">
                <a:moveTo>
                  <a:pt x="14288" y="7417"/>
                </a:moveTo>
                <a:cubicBezTo>
                  <a:pt x="14410" y="7355"/>
                  <a:pt x="14432" y="7339"/>
                  <a:pt x="14511" y="7317"/>
                </a:cubicBezTo>
              </a:path>
              <a:path w="1936" h="968">
                <a:moveTo>
                  <a:pt x="12725" y="7491"/>
                </a:moveTo>
                <a:cubicBezTo>
                  <a:pt x="12725" y="7424"/>
                  <a:pt x="12705" y="7573"/>
                  <a:pt x="12700" y="7640"/>
                </a:cubicBezTo>
                <a:cubicBezTo>
                  <a:pt x="12693" y="7730"/>
                  <a:pt x="12674" y="7880"/>
                  <a:pt x="12725" y="7962"/>
                </a:cubicBezTo>
                <a:cubicBezTo>
                  <a:pt x="12773" y="8039"/>
                  <a:pt x="12897" y="8034"/>
                  <a:pt x="12973" y="8037"/>
                </a:cubicBezTo>
                <a:cubicBezTo>
                  <a:pt x="13039" y="8040"/>
                  <a:pt x="13105" y="8037"/>
                  <a:pt x="13171" y="8037"/>
                </a:cubicBezTo>
              </a:path>
              <a:path w="1936" h="968">
                <a:moveTo>
                  <a:pt x="13370" y="7962"/>
                </a:moveTo>
                <a:cubicBezTo>
                  <a:pt x="13370" y="7874"/>
                  <a:pt x="13409" y="8080"/>
                  <a:pt x="13444" y="8161"/>
                </a:cubicBezTo>
                <a:cubicBezTo>
                  <a:pt x="13452" y="8169"/>
                  <a:pt x="13461" y="8178"/>
                  <a:pt x="13469" y="8186"/>
                </a:cubicBezTo>
                <a:cubicBezTo>
                  <a:pt x="13469" y="8136"/>
                  <a:pt x="13492" y="8032"/>
                  <a:pt x="13543" y="8012"/>
                </a:cubicBezTo>
                <a:cubicBezTo>
                  <a:pt x="13680" y="7957"/>
                  <a:pt x="13675" y="8104"/>
                  <a:pt x="13618" y="8161"/>
                </a:cubicBezTo>
                <a:cubicBezTo>
                  <a:pt x="13598" y="8181"/>
                  <a:pt x="13381" y="8330"/>
                  <a:pt x="13444" y="8235"/>
                </a:cubicBezTo>
              </a:path>
              <a:path w="1936" h="968">
                <a:moveTo>
                  <a:pt x="13816" y="7987"/>
                </a:moveTo>
                <a:cubicBezTo>
                  <a:pt x="13749" y="8007"/>
                  <a:pt x="13528" y="8129"/>
                  <a:pt x="13692" y="8210"/>
                </a:cubicBezTo>
                <a:cubicBezTo>
                  <a:pt x="13820" y="8273"/>
                  <a:pt x="13840" y="8043"/>
                  <a:pt x="13891" y="8062"/>
                </a:cubicBezTo>
                <a:cubicBezTo>
                  <a:pt x="13954" y="8104"/>
                  <a:pt x="13966" y="8120"/>
                  <a:pt x="14015" y="8111"/>
                </a:cubicBezTo>
              </a:path>
              <a:path w="1936" h="968">
                <a:moveTo>
                  <a:pt x="14089" y="7938"/>
                </a:moveTo>
                <a:cubicBezTo>
                  <a:pt x="14114" y="7938"/>
                  <a:pt x="14122" y="7938"/>
                  <a:pt x="14114" y="7913"/>
                </a:cubicBezTo>
                <a:cubicBezTo>
                  <a:pt x="14045" y="7867"/>
                  <a:pt x="14064" y="8041"/>
                  <a:pt x="14089" y="8086"/>
                </a:cubicBezTo>
                <a:cubicBezTo>
                  <a:pt x="14178" y="8249"/>
                  <a:pt x="14333" y="7986"/>
                  <a:pt x="14362" y="7938"/>
                </a:cubicBezTo>
              </a:path>
              <a:path w="1936" h="968">
                <a:moveTo>
                  <a:pt x="14312" y="7739"/>
                </a:moveTo>
                <a:cubicBezTo>
                  <a:pt x="14327" y="7841"/>
                  <a:pt x="14379" y="7996"/>
                  <a:pt x="14412" y="8012"/>
                </a:cubicBezTo>
              </a:path>
              <a:path w="1936" h="968">
                <a:moveTo>
                  <a:pt x="14486" y="7789"/>
                </a:moveTo>
                <a:cubicBezTo>
                  <a:pt x="14416" y="7880"/>
                  <a:pt x="14399" y="7897"/>
                  <a:pt x="14387" y="8012"/>
                </a:cubicBezTo>
                <a:cubicBezTo>
                  <a:pt x="14476" y="8012"/>
                  <a:pt x="14552" y="8010"/>
                  <a:pt x="14635" y="798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97360" y="2633760"/>
            <a:ext cx="320760" cy="304560"/>
          </a:xfrm>
          <a:custGeom>
            <a:avLst/>
            <a:gdLst/>
            <a:ahLst/>
            <a:rect l="l" t="t" r="r" b="b"/>
            <a:pathLst>
              <a:path w="894" h="845">
                <a:moveTo>
                  <a:pt x="16247" y="7441"/>
                </a:moveTo>
                <a:cubicBezTo>
                  <a:pt x="16258" y="7525"/>
                  <a:pt x="16277" y="7606"/>
                  <a:pt x="16297" y="7689"/>
                </a:cubicBezTo>
                <a:cubicBezTo>
                  <a:pt x="16264" y="7575"/>
                  <a:pt x="16191" y="7402"/>
                  <a:pt x="16321" y="7317"/>
                </a:cubicBezTo>
                <a:cubicBezTo>
                  <a:pt x="16338" y="7317"/>
                  <a:pt x="16354" y="7317"/>
                  <a:pt x="16371" y="7317"/>
                </a:cubicBezTo>
                <a:cubicBezTo>
                  <a:pt x="16418" y="7442"/>
                  <a:pt x="16360" y="7392"/>
                  <a:pt x="16346" y="7491"/>
                </a:cubicBezTo>
                <a:cubicBezTo>
                  <a:pt x="16335" y="7566"/>
                  <a:pt x="16421" y="7607"/>
                  <a:pt x="16470" y="7665"/>
                </a:cubicBezTo>
                <a:cubicBezTo>
                  <a:pt x="16495" y="7665"/>
                  <a:pt x="16503" y="7665"/>
                  <a:pt x="16495" y="7689"/>
                </a:cubicBezTo>
              </a:path>
              <a:path w="894" h="845">
                <a:moveTo>
                  <a:pt x="16718" y="7689"/>
                </a:moveTo>
                <a:lnTo>
                  <a:pt x="16718" y="7689"/>
                </a:lnTo>
                <a:lnTo>
                  <a:pt x="16718" y="7689"/>
                </a:lnTo>
              </a:path>
              <a:path w="894" h="845">
                <a:moveTo>
                  <a:pt x="15850" y="7441"/>
                </a:moveTo>
                <a:cubicBezTo>
                  <a:pt x="15799" y="7560"/>
                  <a:pt x="15827" y="7687"/>
                  <a:pt x="15850" y="7813"/>
                </a:cubicBezTo>
                <a:cubicBezTo>
                  <a:pt x="15884" y="8001"/>
                  <a:pt x="16034" y="7897"/>
                  <a:pt x="16173" y="7863"/>
                </a:cubicBezTo>
                <a:cubicBezTo>
                  <a:pt x="16181" y="7863"/>
                  <a:pt x="16189" y="7863"/>
                  <a:pt x="16197" y="7863"/>
                </a:cubicBezTo>
              </a:path>
              <a:path w="894" h="845">
                <a:moveTo>
                  <a:pt x="16396" y="7888"/>
                </a:moveTo>
                <a:cubicBezTo>
                  <a:pt x="16416" y="7981"/>
                  <a:pt x="16421" y="8065"/>
                  <a:pt x="16421" y="8161"/>
                </a:cubicBezTo>
                <a:cubicBezTo>
                  <a:pt x="16513" y="8149"/>
                  <a:pt x="16603" y="8124"/>
                  <a:pt x="16694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43760" y="2660760"/>
            <a:ext cx="366480" cy="260280"/>
          </a:xfrm>
          <a:custGeom>
            <a:avLst/>
            <a:gdLst/>
            <a:ahLst/>
            <a:rect l="l" t="t" r="r" b="b"/>
            <a:pathLst>
              <a:path w="1018" h="720">
                <a:moveTo>
                  <a:pt x="17115" y="7863"/>
                </a:moveTo>
                <a:cubicBezTo>
                  <a:pt x="17087" y="7863"/>
                  <a:pt x="17076" y="7865"/>
                  <a:pt x="17066" y="7888"/>
                </a:cubicBezTo>
                <a:cubicBezTo>
                  <a:pt x="17084" y="7925"/>
                  <a:pt x="17167" y="7934"/>
                  <a:pt x="17165" y="7987"/>
                </a:cubicBezTo>
                <a:cubicBezTo>
                  <a:pt x="17161" y="8079"/>
                  <a:pt x="17106" y="8160"/>
                  <a:pt x="17090" y="8037"/>
                </a:cubicBezTo>
              </a:path>
              <a:path w="1018" h="720">
                <a:moveTo>
                  <a:pt x="17338" y="7888"/>
                </a:moveTo>
                <a:cubicBezTo>
                  <a:pt x="17360" y="7932"/>
                  <a:pt x="17363" y="7943"/>
                  <a:pt x="17388" y="7962"/>
                </a:cubicBezTo>
              </a:path>
              <a:path w="1018" h="720">
                <a:moveTo>
                  <a:pt x="17289" y="7689"/>
                </a:moveTo>
                <a:cubicBezTo>
                  <a:pt x="17297" y="7681"/>
                  <a:pt x="17306" y="7673"/>
                  <a:pt x="17314" y="7665"/>
                </a:cubicBezTo>
              </a:path>
              <a:path w="1018" h="720">
                <a:moveTo>
                  <a:pt x="17314" y="7665"/>
                </a:moveTo>
                <a:lnTo>
                  <a:pt x="17314" y="7665"/>
                </a:lnTo>
              </a:path>
              <a:path w="1018" h="720">
                <a:moveTo>
                  <a:pt x="17686" y="7665"/>
                </a:moveTo>
                <a:cubicBezTo>
                  <a:pt x="17583" y="7716"/>
                  <a:pt x="17457" y="7789"/>
                  <a:pt x="17587" y="7863"/>
                </a:cubicBezTo>
                <a:cubicBezTo>
                  <a:pt x="17603" y="7871"/>
                  <a:pt x="17620" y="7880"/>
                  <a:pt x="17636" y="7888"/>
                </a:cubicBezTo>
                <a:cubicBezTo>
                  <a:pt x="17648" y="7748"/>
                  <a:pt x="17643" y="7698"/>
                  <a:pt x="17611" y="7565"/>
                </a:cubicBezTo>
                <a:cubicBezTo>
                  <a:pt x="17520" y="7411"/>
                  <a:pt x="17696" y="7792"/>
                  <a:pt x="17711" y="7813"/>
                </a:cubicBezTo>
                <a:cubicBezTo>
                  <a:pt x="17727" y="7821"/>
                  <a:pt x="17744" y="7830"/>
                  <a:pt x="17760" y="7838"/>
                </a:cubicBezTo>
              </a:path>
              <a:path w="1018" h="720">
                <a:moveTo>
                  <a:pt x="17884" y="7565"/>
                </a:moveTo>
                <a:cubicBezTo>
                  <a:pt x="17945" y="7510"/>
                  <a:pt x="18019" y="7463"/>
                  <a:pt x="17983" y="7392"/>
                </a:cubicBezTo>
                <a:cubicBezTo>
                  <a:pt x="17913" y="7534"/>
                  <a:pt x="17845" y="7624"/>
                  <a:pt x="18033" y="7640"/>
                </a:cubicBezTo>
                <a:cubicBezTo>
                  <a:pt x="18050" y="7640"/>
                  <a:pt x="18066" y="7640"/>
                  <a:pt x="18083" y="76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2911320"/>
            <a:ext cx="169920" cy="250920"/>
          </a:xfrm>
          <a:custGeom>
            <a:avLst/>
            <a:gdLst/>
            <a:ahLst/>
            <a:rect l="l" t="t" r="r" b="b"/>
            <a:pathLst>
              <a:path w="472" h="696">
                <a:moveTo>
                  <a:pt x="19745" y="8086"/>
                </a:moveTo>
                <a:lnTo>
                  <a:pt x="19745" y="8210"/>
                </a:lnTo>
                <a:lnTo>
                  <a:pt x="19769" y="8434"/>
                </a:lnTo>
                <a:lnTo>
                  <a:pt x="19745" y="8607"/>
                </a:lnTo>
                <a:lnTo>
                  <a:pt x="19720" y="8682"/>
                </a:lnTo>
                <a:lnTo>
                  <a:pt x="19745" y="8657"/>
                </a:lnTo>
                <a:lnTo>
                  <a:pt x="19745" y="8607"/>
                </a:lnTo>
                <a:lnTo>
                  <a:pt x="19769" y="8458"/>
                </a:lnTo>
                <a:lnTo>
                  <a:pt x="19844" y="8359"/>
                </a:lnTo>
                <a:lnTo>
                  <a:pt x="19968" y="8310"/>
                </a:lnTo>
                <a:lnTo>
                  <a:pt x="20067" y="8285"/>
                </a:lnTo>
                <a:lnTo>
                  <a:pt x="20141" y="8409"/>
                </a:lnTo>
                <a:lnTo>
                  <a:pt x="20191" y="8558"/>
                </a:lnTo>
                <a:lnTo>
                  <a:pt x="20191" y="8706"/>
                </a:lnTo>
                <a:lnTo>
                  <a:pt x="20191" y="8781"/>
                </a:lnTo>
                <a:lnTo>
                  <a:pt x="20191" y="8756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2680" y="2990880"/>
            <a:ext cx="125280" cy="90360"/>
          </a:xfrm>
          <a:custGeom>
            <a:avLst/>
            <a:gdLst/>
            <a:ahLst/>
            <a:rect l="l" t="t" r="r" b="b"/>
            <a:pathLst>
              <a:path w="348" h="249">
                <a:moveTo>
                  <a:pt x="20563" y="8384"/>
                </a:moveTo>
                <a:cubicBezTo>
                  <a:pt x="20665" y="8348"/>
                  <a:pt x="20728" y="8323"/>
                  <a:pt x="20836" y="8310"/>
                </a:cubicBezTo>
              </a:path>
              <a:path w="348" h="249">
                <a:moveTo>
                  <a:pt x="20563" y="8558"/>
                </a:moveTo>
                <a:cubicBezTo>
                  <a:pt x="20684" y="8535"/>
                  <a:pt x="20792" y="8510"/>
                  <a:pt x="20910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1160" y="2847960"/>
            <a:ext cx="903240" cy="430200"/>
          </a:xfrm>
          <a:custGeom>
            <a:avLst/>
            <a:gdLst/>
            <a:ahLst/>
            <a:rect l="l" t="t" r="r" b="b"/>
            <a:pathLst>
              <a:path w="2507" h="1191">
                <a:moveTo>
                  <a:pt x="21282" y="7938"/>
                </a:moveTo>
                <a:cubicBezTo>
                  <a:pt x="21321" y="8178"/>
                  <a:pt x="21335" y="8369"/>
                  <a:pt x="21282" y="8607"/>
                </a:cubicBezTo>
                <a:cubicBezTo>
                  <a:pt x="21305" y="8468"/>
                  <a:pt x="21337" y="8304"/>
                  <a:pt x="21456" y="8210"/>
                </a:cubicBezTo>
                <a:cubicBezTo>
                  <a:pt x="21489" y="8202"/>
                  <a:pt x="21522" y="8194"/>
                  <a:pt x="21555" y="8186"/>
                </a:cubicBezTo>
                <a:cubicBezTo>
                  <a:pt x="21676" y="8337"/>
                  <a:pt x="21704" y="8411"/>
                  <a:pt x="21704" y="8607"/>
                </a:cubicBezTo>
              </a:path>
              <a:path w="2507" h="1191">
                <a:moveTo>
                  <a:pt x="21803" y="8409"/>
                </a:moveTo>
                <a:cubicBezTo>
                  <a:pt x="21909" y="8375"/>
                  <a:pt x="21993" y="8345"/>
                  <a:pt x="22101" y="8334"/>
                </a:cubicBezTo>
                <a:cubicBezTo>
                  <a:pt x="22069" y="8271"/>
                  <a:pt x="21911" y="8195"/>
                  <a:pt x="21828" y="8235"/>
                </a:cubicBezTo>
                <a:cubicBezTo>
                  <a:pt x="21585" y="8353"/>
                  <a:pt x="21753" y="8666"/>
                  <a:pt x="22002" y="8582"/>
                </a:cubicBezTo>
                <a:cubicBezTo>
                  <a:pt x="22043" y="8549"/>
                  <a:pt x="22085" y="8516"/>
                  <a:pt x="22126" y="8483"/>
                </a:cubicBezTo>
              </a:path>
              <a:path w="2507" h="1191">
                <a:moveTo>
                  <a:pt x="22225" y="8334"/>
                </a:moveTo>
                <a:cubicBezTo>
                  <a:pt x="22230" y="8426"/>
                  <a:pt x="22237" y="8493"/>
                  <a:pt x="22250" y="8582"/>
                </a:cubicBezTo>
              </a:path>
              <a:path w="2507" h="1191">
                <a:moveTo>
                  <a:pt x="22151" y="8062"/>
                </a:moveTo>
                <a:cubicBezTo>
                  <a:pt x="22159" y="8045"/>
                  <a:pt x="22167" y="8029"/>
                  <a:pt x="22175" y="8012"/>
                </a:cubicBezTo>
              </a:path>
              <a:path w="2507" h="1191">
                <a:moveTo>
                  <a:pt x="22746" y="8334"/>
                </a:moveTo>
                <a:cubicBezTo>
                  <a:pt x="22661" y="8229"/>
                  <a:pt x="22524" y="8220"/>
                  <a:pt x="22448" y="8384"/>
                </a:cubicBezTo>
                <a:cubicBezTo>
                  <a:pt x="22324" y="8654"/>
                  <a:pt x="22581" y="8691"/>
                  <a:pt x="22671" y="8483"/>
                </a:cubicBezTo>
                <a:cubicBezTo>
                  <a:pt x="22679" y="8433"/>
                  <a:pt x="22688" y="8384"/>
                  <a:pt x="22696" y="8334"/>
                </a:cubicBezTo>
                <a:cubicBezTo>
                  <a:pt x="22696" y="8326"/>
                  <a:pt x="22696" y="8318"/>
                  <a:pt x="22696" y="8310"/>
                </a:cubicBezTo>
                <a:cubicBezTo>
                  <a:pt x="22742" y="8536"/>
                  <a:pt x="22840" y="8696"/>
                  <a:pt x="22746" y="8930"/>
                </a:cubicBezTo>
                <a:cubicBezTo>
                  <a:pt x="22612" y="9265"/>
                  <a:pt x="22371" y="9063"/>
                  <a:pt x="22299" y="8880"/>
                </a:cubicBezTo>
              </a:path>
              <a:path w="2507" h="1191">
                <a:moveTo>
                  <a:pt x="22895" y="8037"/>
                </a:moveTo>
                <a:cubicBezTo>
                  <a:pt x="22909" y="8189"/>
                  <a:pt x="22944" y="8329"/>
                  <a:pt x="22944" y="8483"/>
                </a:cubicBezTo>
                <a:cubicBezTo>
                  <a:pt x="22944" y="8334"/>
                  <a:pt x="22971" y="8263"/>
                  <a:pt x="23044" y="8136"/>
                </a:cubicBezTo>
                <a:cubicBezTo>
                  <a:pt x="23229" y="8213"/>
                  <a:pt x="23191" y="8328"/>
                  <a:pt x="23242" y="8508"/>
                </a:cubicBezTo>
                <a:cubicBezTo>
                  <a:pt x="23265" y="8531"/>
                  <a:pt x="23273" y="8542"/>
                  <a:pt x="23267" y="8508"/>
                </a:cubicBezTo>
              </a:path>
              <a:path w="2507" h="1191">
                <a:moveTo>
                  <a:pt x="23465" y="7913"/>
                </a:moveTo>
                <a:cubicBezTo>
                  <a:pt x="23476" y="8071"/>
                  <a:pt x="23447" y="8228"/>
                  <a:pt x="23465" y="8384"/>
                </a:cubicBezTo>
                <a:cubicBezTo>
                  <a:pt x="23479" y="8513"/>
                  <a:pt x="23648" y="8504"/>
                  <a:pt x="23738" y="8458"/>
                </a:cubicBezTo>
                <a:cubicBezTo>
                  <a:pt x="23755" y="8442"/>
                  <a:pt x="23771" y="8425"/>
                  <a:pt x="23788" y="8409"/>
                </a:cubicBezTo>
              </a:path>
              <a:path w="2507" h="1191">
                <a:moveTo>
                  <a:pt x="23168" y="8161"/>
                </a:moveTo>
                <a:cubicBezTo>
                  <a:pt x="23344" y="8154"/>
                  <a:pt x="23514" y="8121"/>
                  <a:pt x="23688" y="8111"/>
                </a:cubicBezTo>
                <a:cubicBezTo>
                  <a:pt x="23696" y="8111"/>
                  <a:pt x="23705" y="8111"/>
                  <a:pt x="23713" y="8111"/>
                </a:cubicBezTo>
              </a:path>
              <a:path w="2507" h="1191">
                <a:moveTo>
                  <a:pt x="22845" y="7913"/>
                </a:moveTo>
                <a:cubicBezTo>
                  <a:pt x="22856" y="7969"/>
                  <a:pt x="22871" y="8064"/>
                  <a:pt x="22895" y="8111"/>
                </a:cubicBezTo>
                <a:cubicBezTo>
                  <a:pt x="22903" y="8119"/>
                  <a:pt x="22912" y="8128"/>
                  <a:pt x="22920" y="81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080" y="2303640"/>
            <a:ext cx="36720" cy="349200"/>
          </a:xfrm>
          <a:custGeom>
            <a:avLst/>
            <a:gdLst/>
            <a:ahLst/>
            <a:rect l="l" t="t" r="r" b="b"/>
            <a:pathLst>
              <a:path w="100" h="968">
                <a:moveTo>
                  <a:pt x="2877" y="6400"/>
                </a:moveTo>
                <a:cubicBezTo>
                  <a:pt x="2778" y="6576"/>
                  <a:pt x="2822" y="6875"/>
                  <a:pt x="2803" y="7094"/>
                </a:cubicBezTo>
                <a:cubicBezTo>
                  <a:pt x="2794" y="7194"/>
                  <a:pt x="2778" y="7268"/>
                  <a:pt x="2778" y="73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35000" y="2241720"/>
            <a:ext cx="839880" cy="465120"/>
          </a:xfrm>
          <a:custGeom>
            <a:avLst/>
            <a:gdLst/>
            <a:ahLst/>
            <a:rect l="l" t="t" r="r" b="b"/>
            <a:pathLst>
              <a:path w="2333" h="1291">
                <a:moveTo>
                  <a:pt x="2877" y="6400"/>
                </a:moveTo>
                <a:cubicBezTo>
                  <a:pt x="2901" y="6388"/>
                  <a:pt x="2975" y="6343"/>
                  <a:pt x="3026" y="6325"/>
                </a:cubicBezTo>
                <a:cubicBezTo>
                  <a:pt x="3175" y="6272"/>
                  <a:pt x="3413" y="6266"/>
                  <a:pt x="3572" y="6251"/>
                </a:cubicBezTo>
                <a:cubicBezTo>
                  <a:pt x="3697" y="6239"/>
                  <a:pt x="3818" y="6229"/>
                  <a:pt x="3944" y="6226"/>
                </a:cubicBezTo>
                <a:cubicBezTo>
                  <a:pt x="4143" y="6221"/>
                  <a:pt x="5080" y="6118"/>
                  <a:pt x="5184" y="6251"/>
                </a:cubicBezTo>
                <a:cubicBezTo>
                  <a:pt x="5238" y="6321"/>
                  <a:pt x="5190" y="6370"/>
                  <a:pt x="5184" y="6449"/>
                </a:cubicBezTo>
                <a:cubicBezTo>
                  <a:pt x="5176" y="6552"/>
                  <a:pt x="5206" y="6645"/>
                  <a:pt x="5209" y="6747"/>
                </a:cubicBezTo>
                <a:cubicBezTo>
                  <a:pt x="5212" y="6870"/>
                  <a:pt x="5197" y="6977"/>
                  <a:pt x="5184" y="7094"/>
                </a:cubicBezTo>
                <a:cubicBezTo>
                  <a:pt x="5178" y="7150"/>
                  <a:pt x="5163" y="7226"/>
                  <a:pt x="5159" y="7268"/>
                </a:cubicBezTo>
                <a:cubicBezTo>
                  <a:pt x="5152" y="7335"/>
                  <a:pt x="5166" y="7335"/>
                  <a:pt x="5135" y="7367"/>
                </a:cubicBezTo>
                <a:cubicBezTo>
                  <a:pt x="5074" y="7428"/>
                  <a:pt x="5035" y="7402"/>
                  <a:pt x="4961" y="7417"/>
                </a:cubicBezTo>
                <a:cubicBezTo>
                  <a:pt x="4915" y="7426"/>
                  <a:pt x="4870" y="7439"/>
                  <a:pt x="4812" y="7441"/>
                </a:cubicBezTo>
                <a:cubicBezTo>
                  <a:pt x="4745" y="7443"/>
                  <a:pt x="4694" y="7459"/>
                  <a:pt x="4638" y="7466"/>
                </a:cubicBezTo>
                <a:cubicBezTo>
                  <a:pt x="4477" y="7486"/>
                  <a:pt x="4291" y="7474"/>
                  <a:pt x="4142" y="7491"/>
                </a:cubicBezTo>
                <a:cubicBezTo>
                  <a:pt x="4019" y="7505"/>
                  <a:pt x="3888" y="7502"/>
                  <a:pt x="3770" y="7516"/>
                </a:cubicBezTo>
                <a:cubicBezTo>
                  <a:pt x="3664" y="7528"/>
                  <a:pt x="3513" y="7498"/>
                  <a:pt x="3448" y="7491"/>
                </a:cubicBezTo>
                <a:cubicBezTo>
                  <a:pt x="3314" y="7477"/>
                  <a:pt x="3086" y="7540"/>
                  <a:pt x="2977" y="7466"/>
                </a:cubicBezTo>
                <a:cubicBezTo>
                  <a:pt x="2926" y="7432"/>
                  <a:pt x="2940" y="7479"/>
                  <a:pt x="2927" y="7392"/>
                </a:cubicBezTo>
                <a:cubicBezTo>
                  <a:pt x="2927" y="7367"/>
                  <a:pt x="2927" y="7359"/>
                  <a:pt x="2927" y="73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4920" y="2463840"/>
            <a:ext cx="1019160" cy="465120"/>
          </a:xfrm>
          <a:custGeom>
            <a:avLst/>
            <a:gdLst/>
            <a:ahLst/>
            <a:rect l="l" t="t" r="r" b="b"/>
            <a:pathLst>
              <a:path w="2828" h="1291">
                <a:moveTo>
                  <a:pt x="3448" y="6921"/>
                </a:moveTo>
                <a:cubicBezTo>
                  <a:pt x="3479" y="6907"/>
                  <a:pt x="3484" y="6913"/>
                  <a:pt x="3522" y="6896"/>
                </a:cubicBezTo>
                <a:cubicBezTo>
                  <a:pt x="3536" y="6957"/>
                  <a:pt x="3545" y="7003"/>
                  <a:pt x="3547" y="7069"/>
                </a:cubicBezTo>
                <a:cubicBezTo>
                  <a:pt x="3550" y="7150"/>
                  <a:pt x="3539" y="7217"/>
                  <a:pt x="3522" y="7293"/>
                </a:cubicBezTo>
                <a:cubicBezTo>
                  <a:pt x="3513" y="7335"/>
                  <a:pt x="3509" y="7376"/>
                  <a:pt x="3497" y="7417"/>
                </a:cubicBezTo>
                <a:cubicBezTo>
                  <a:pt x="3482" y="7469"/>
                  <a:pt x="3455" y="7537"/>
                  <a:pt x="3448" y="7590"/>
                </a:cubicBezTo>
                <a:cubicBezTo>
                  <a:pt x="3440" y="7650"/>
                  <a:pt x="3438" y="7707"/>
                  <a:pt x="3423" y="7764"/>
                </a:cubicBezTo>
                <a:cubicBezTo>
                  <a:pt x="3411" y="7810"/>
                  <a:pt x="3379" y="7874"/>
                  <a:pt x="3373" y="7913"/>
                </a:cubicBezTo>
                <a:cubicBezTo>
                  <a:pt x="3365" y="7966"/>
                  <a:pt x="3361" y="8010"/>
                  <a:pt x="3349" y="8062"/>
                </a:cubicBezTo>
                <a:cubicBezTo>
                  <a:pt x="3406" y="8081"/>
                  <a:pt x="3396" y="8084"/>
                  <a:pt x="3473" y="8086"/>
                </a:cubicBezTo>
                <a:cubicBezTo>
                  <a:pt x="3601" y="8090"/>
                  <a:pt x="3722" y="8099"/>
                  <a:pt x="3845" y="8111"/>
                </a:cubicBezTo>
                <a:cubicBezTo>
                  <a:pt x="3917" y="8118"/>
                  <a:pt x="4002" y="8131"/>
                  <a:pt x="4068" y="8136"/>
                </a:cubicBezTo>
                <a:cubicBezTo>
                  <a:pt x="4169" y="8143"/>
                  <a:pt x="4246" y="8122"/>
                  <a:pt x="4341" y="8111"/>
                </a:cubicBezTo>
                <a:cubicBezTo>
                  <a:pt x="4416" y="8103"/>
                  <a:pt x="4481" y="8130"/>
                  <a:pt x="4539" y="8136"/>
                </a:cubicBezTo>
                <a:cubicBezTo>
                  <a:pt x="4868" y="8170"/>
                  <a:pt x="5263" y="8163"/>
                  <a:pt x="5581" y="8111"/>
                </a:cubicBezTo>
                <a:cubicBezTo>
                  <a:pt x="5648" y="8100"/>
                  <a:pt x="5710" y="8088"/>
                  <a:pt x="5779" y="8086"/>
                </a:cubicBezTo>
                <a:cubicBezTo>
                  <a:pt x="5845" y="8084"/>
                  <a:pt x="5912" y="8086"/>
                  <a:pt x="5978" y="8086"/>
                </a:cubicBezTo>
                <a:cubicBezTo>
                  <a:pt x="5983" y="8026"/>
                  <a:pt x="5988" y="7970"/>
                  <a:pt x="6003" y="7913"/>
                </a:cubicBezTo>
                <a:cubicBezTo>
                  <a:pt x="6030" y="7814"/>
                  <a:pt x="6032" y="7715"/>
                  <a:pt x="6052" y="7615"/>
                </a:cubicBezTo>
                <a:cubicBezTo>
                  <a:pt x="6063" y="7561"/>
                  <a:pt x="6095" y="7488"/>
                  <a:pt x="6102" y="7441"/>
                </a:cubicBezTo>
                <a:cubicBezTo>
                  <a:pt x="6109" y="7392"/>
                  <a:pt x="6122" y="7314"/>
                  <a:pt x="6127" y="7268"/>
                </a:cubicBezTo>
                <a:cubicBezTo>
                  <a:pt x="6132" y="7224"/>
                  <a:pt x="6147" y="7177"/>
                  <a:pt x="6152" y="7144"/>
                </a:cubicBezTo>
                <a:cubicBezTo>
                  <a:pt x="6158" y="7102"/>
                  <a:pt x="6179" y="7032"/>
                  <a:pt x="6176" y="6995"/>
                </a:cubicBezTo>
                <a:cubicBezTo>
                  <a:pt x="6172" y="6940"/>
                  <a:pt x="6176" y="6941"/>
                  <a:pt x="6127" y="6921"/>
                </a:cubicBezTo>
                <a:cubicBezTo>
                  <a:pt x="6049" y="6890"/>
                  <a:pt x="5784" y="6902"/>
                  <a:pt x="5730" y="6896"/>
                </a:cubicBezTo>
                <a:cubicBezTo>
                  <a:pt x="5646" y="6887"/>
                  <a:pt x="5591" y="6896"/>
                  <a:pt x="5507" y="6871"/>
                </a:cubicBezTo>
                <a:cubicBezTo>
                  <a:pt x="5454" y="6855"/>
                  <a:pt x="5415" y="6848"/>
                  <a:pt x="5358" y="6846"/>
                </a:cubicBezTo>
                <a:cubicBezTo>
                  <a:pt x="5255" y="6843"/>
                  <a:pt x="5147" y="6863"/>
                  <a:pt x="5060" y="6871"/>
                </a:cubicBezTo>
                <a:cubicBezTo>
                  <a:pt x="5002" y="6876"/>
                  <a:pt x="4931" y="6891"/>
                  <a:pt x="4887" y="6896"/>
                </a:cubicBezTo>
                <a:cubicBezTo>
                  <a:pt x="4498" y="6939"/>
                  <a:pt x="4051" y="6908"/>
                  <a:pt x="3671" y="6871"/>
                </a:cubicBezTo>
                <a:cubicBezTo>
                  <a:pt x="3620" y="6866"/>
                  <a:pt x="3561" y="6851"/>
                  <a:pt x="3522" y="6846"/>
                </a:cubicBezTo>
                <a:cubicBezTo>
                  <a:pt x="3497" y="6846"/>
                  <a:pt x="3489" y="6846"/>
                  <a:pt x="3473" y="684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2259000"/>
            <a:ext cx="81000" cy="108000"/>
          </a:xfrm>
          <a:custGeom>
            <a:avLst/>
            <a:gdLst/>
            <a:ahLst/>
            <a:rect l="l" t="t" r="r" b="b"/>
            <a:pathLst>
              <a:path w="224" h="298">
                <a:moveTo>
                  <a:pt x="5085" y="6276"/>
                </a:moveTo>
                <a:cubicBezTo>
                  <a:pt x="5077" y="6276"/>
                  <a:pt x="5068" y="6276"/>
                  <a:pt x="5060" y="6276"/>
                </a:cubicBezTo>
                <a:cubicBezTo>
                  <a:pt x="5060" y="6325"/>
                  <a:pt x="5055" y="6356"/>
                  <a:pt x="5085" y="6400"/>
                </a:cubicBezTo>
                <a:cubicBezTo>
                  <a:pt x="5107" y="6433"/>
                  <a:pt x="5133" y="6507"/>
                  <a:pt x="5159" y="6524"/>
                </a:cubicBezTo>
                <a:cubicBezTo>
                  <a:pt x="5184" y="6524"/>
                  <a:pt x="5192" y="6524"/>
                  <a:pt x="5209" y="6524"/>
                </a:cubicBezTo>
                <a:cubicBezTo>
                  <a:pt x="5227" y="6559"/>
                  <a:pt x="5238" y="6564"/>
                  <a:pt x="5283" y="65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7880" y="2214720"/>
            <a:ext cx="358920" cy="258480"/>
          </a:xfrm>
          <a:custGeom>
            <a:avLst/>
            <a:gdLst/>
            <a:ahLst/>
            <a:rect l="l" t="t" r="r" b="b"/>
            <a:pathLst>
              <a:path w="993" h="720">
                <a:moveTo>
                  <a:pt x="5135" y="6251"/>
                </a:moveTo>
                <a:cubicBezTo>
                  <a:pt x="5144" y="6220"/>
                  <a:pt x="5150" y="6183"/>
                  <a:pt x="5159" y="6152"/>
                </a:cubicBezTo>
                <a:cubicBezTo>
                  <a:pt x="5221" y="6169"/>
                  <a:pt x="5186" y="6153"/>
                  <a:pt x="5234" y="6201"/>
                </a:cubicBezTo>
                <a:cubicBezTo>
                  <a:pt x="5254" y="6221"/>
                  <a:pt x="5297" y="6262"/>
                  <a:pt x="5308" y="6276"/>
                </a:cubicBezTo>
                <a:cubicBezTo>
                  <a:pt x="5342" y="6318"/>
                  <a:pt x="5375" y="6343"/>
                  <a:pt x="5407" y="6375"/>
                </a:cubicBezTo>
                <a:cubicBezTo>
                  <a:pt x="5456" y="6425"/>
                  <a:pt x="5544" y="6482"/>
                  <a:pt x="5581" y="6524"/>
                </a:cubicBezTo>
                <a:cubicBezTo>
                  <a:pt x="5601" y="6564"/>
                  <a:pt x="5600" y="6580"/>
                  <a:pt x="5631" y="6573"/>
                </a:cubicBezTo>
                <a:cubicBezTo>
                  <a:pt x="5649" y="6592"/>
                  <a:pt x="5692" y="6654"/>
                  <a:pt x="5730" y="6672"/>
                </a:cubicBezTo>
                <a:cubicBezTo>
                  <a:pt x="5791" y="6701"/>
                  <a:pt x="5817" y="6744"/>
                  <a:pt x="5879" y="6772"/>
                </a:cubicBezTo>
                <a:cubicBezTo>
                  <a:pt x="5928" y="6794"/>
                  <a:pt x="6006" y="6800"/>
                  <a:pt x="6052" y="6821"/>
                </a:cubicBezTo>
                <a:cubicBezTo>
                  <a:pt x="6074" y="6831"/>
                  <a:pt x="6108" y="6860"/>
                  <a:pt x="6127" y="687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47880" y="2670120"/>
            <a:ext cx="304920" cy="214200"/>
          </a:xfrm>
          <a:custGeom>
            <a:avLst/>
            <a:gdLst/>
            <a:ahLst/>
            <a:rect l="l" t="t" r="r" b="b"/>
            <a:pathLst>
              <a:path w="844" h="596">
                <a:moveTo>
                  <a:pt x="5135" y="7441"/>
                </a:moveTo>
                <a:cubicBezTo>
                  <a:pt x="5135" y="7398"/>
                  <a:pt x="5179" y="7459"/>
                  <a:pt x="5209" y="7491"/>
                </a:cubicBezTo>
                <a:cubicBezTo>
                  <a:pt x="5254" y="7540"/>
                  <a:pt x="5328" y="7601"/>
                  <a:pt x="5383" y="7640"/>
                </a:cubicBezTo>
                <a:cubicBezTo>
                  <a:pt x="5429" y="7673"/>
                  <a:pt x="5483" y="7710"/>
                  <a:pt x="5531" y="7739"/>
                </a:cubicBezTo>
                <a:cubicBezTo>
                  <a:pt x="5582" y="7770"/>
                  <a:pt x="5630" y="7808"/>
                  <a:pt x="5680" y="7838"/>
                </a:cubicBezTo>
                <a:cubicBezTo>
                  <a:pt x="5731" y="7869"/>
                  <a:pt x="5781" y="7881"/>
                  <a:pt x="5829" y="7913"/>
                </a:cubicBezTo>
                <a:cubicBezTo>
                  <a:pt x="5866" y="7938"/>
                  <a:pt x="5932" y="8000"/>
                  <a:pt x="5953" y="8012"/>
                </a:cubicBezTo>
                <a:cubicBezTo>
                  <a:pt x="5961" y="8012"/>
                  <a:pt x="5970" y="8012"/>
                  <a:pt x="5978" y="80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00080" y="2670120"/>
            <a:ext cx="250920" cy="250920"/>
          </a:xfrm>
          <a:custGeom>
            <a:avLst/>
            <a:gdLst/>
            <a:ahLst/>
            <a:rect l="l" t="t" r="r" b="b"/>
            <a:pathLst>
              <a:path w="696" h="695">
                <a:moveTo>
                  <a:pt x="2778" y="7417"/>
                </a:moveTo>
                <a:cubicBezTo>
                  <a:pt x="2811" y="7428"/>
                  <a:pt x="2870" y="7500"/>
                  <a:pt x="2902" y="7541"/>
                </a:cubicBezTo>
                <a:cubicBezTo>
                  <a:pt x="2972" y="7630"/>
                  <a:pt x="3024" y="7694"/>
                  <a:pt x="3101" y="7764"/>
                </a:cubicBezTo>
                <a:cubicBezTo>
                  <a:pt x="3149" y="7808"/>
                  <a:pt x="3220" y="7879"/>
                  <a:pt x="3249" y="7913"/>
                </a:cubicBezTo>
                <a:cubicBezTo>
                  <a:pt x="3295" y="7967"/>
                  <a:pt x="3321" y="8000"/>
                  <a:pt x="3373" y="8037"/>
                </a:cubicBezTo>
                <a:cubicBezTo>
                  <a:pt x="3389" y="8049"/>
                  <a:pt x="3467" y="8077"/>
                  <a:pt x="3473" y="8086"/>
                </a:cubicBezTo>
                <a:cubicBezTo>
                  <a:pt x="3473" y="8094"/>
                  <a:pt x="3473" y="8103"/>
                  <a:pt x="3473" y="81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4720" y="2286000"/>
            <a:ext cx="23328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2902" y="6350"/>
                </a:moveTo>
                <a:cubicBezTo>
                  <a:pt x="2933" y="6427"/>
                  <a:pt x="2963" y="6443"/>
                  <a:pt x="3026" y="6499"/>
                </a:cubicBezTo>
                <a:cubicBezTo>
                  <a:pt x="3092" y="6558"/>
                  <a:pt x="3162" y="6609"/>
                  <a:pt x="3225" y="6672"/>
                </a:cubicBezTo>
                <a:cubicBezTo>
                  <a:pt x="3272" y="6719"/>
                  <a:pt x="3310" y="6752"/>
                  <a:pt x="3349" y="6796"/>
                </a:cubicBezTo>
                <a:cubicBezTo>
                  <a:pt x="3384" y="6836"/>
                  <a:pt x="3429" y="6857"/>
                  <a:pt x="3448" y="6896"/>
                </a:cubicBezTo>
                <a:cubicBezTo>
                  <a:pt x="3487" y="6909"/>
                  <a:pt x="3458" y="6908"/>
                  <a:pt x="3497" y="6921"/>
                </a:cubicBezTo>
                <a:cubicBezTo>
                  <a:pt x="3509" y="6968"/>
                  <a:pt x="3535" y="6960"/>
                  <a:pt x="3547" y="69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062080"/>
            <a:ext cx="44280" cy="144720"/>
          </a:xfrm>
          <a:custGeom>
            <a:avLst/>
            <a:gdLst/>
            <a:ahLst/>
            <a:rect l="l" t="t" r="r" b="b"/>
            <a:pathLst>
              <a:path w="125" h="398">
                <a:moveTo>
                  <a:pt x="3175" y="5879"/>
                </a:moveTo>
                <a:cubicBezTo>
                  <a:pt x="3185" y="5849"/>
                  <a:pt x="3196" y="5838"/>
                  <a:pt x="3225" y="5804"/>
                </a:cubicBezTo>
                <a:cubicBezTo>
                  <a:pt x="3247" y="5779"/>
                  <a:pt x="3249" y="5709"/>
                  <a:pt x="3249" y="5755"/>
                </a:cubicBezTo>
                <a:cubicBezTo>
                  <a:pt x="3249" y="5875"/>
                  <a:pt x="3289" y="5985"/>
                  <a:pt x="3299" y="6102"/>
                </a:cubicBezTo>
                <a:cubicBezTo>
                  <a:pt x="3299" y="6110"/>
                  <a:pt x="3299" y="6119"/>
                  <a:pt x="3299" y="61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4280" y="2098800"/>
            <a:ext cx="88920" cy="982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3497" y="5904"/>
                </a:moveTo>
                <a:cubicBezTo>
                  <a:pt x="3557" y="5904"/>
                  <a:pt x="3554" y="5911"/>
                  <a:pt x="3597" y="5879"/>
                </a:cubicBezTo>
                <a:cubicBezTo>
                  <a:pt x="3523" y="5820"/>
                  <a:pt x="3460" y="5793"/>
                  <a:pt x="3398" y="5904"/>
                </a:cubicBezTo>
                <a:cubicBezTo>
                  <a:pt x="3280" y="6118"/>
                  <a:pt x="3521" y="6080"/>
                  <a:pt x="3621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9920" y="2116080"/>
            <a:ext cx="106200" cy="63720"/>
          </a:xfrm>
          <a:custGeom>
            <a:avLst/>
            <a:gdLst/>
            <a:ahLst/>
            <a:rect l="l" t="t" r="r" b="b"/>
            <a:pathLst>
              <a:path w="298" h="174">
                <a:moveTo>
                  <a:pt x="3721" y="5879"/>
                </a:moveTo>
                <a:cubicBezTo>
                  <a:pt x="3745" y="5932"/>
                  <a:pt x="3764" y="5982"/>
                  <a:pt x="3795" y="6028"/>
                </a:cubicBezTo>
                <a:cubicBezTo>
                  <a:pt x="3795" y="6092"/>
                  <a:pt x="3787" y="5926"/>
                  <a:pt x="3795" y="5904"/>
                </a:cubicBezTo>
                <a:cubicBezTo>
                  <a:pt x="3851" y="5749"/>
                  <a:pt x="3979" y="5991"/>
                  <a:pt x="3994" y="6028"/>
                </a:cubicBezTo>
                <a:cubicBezTo>
                  <a:pt x="3994" y="6052"/>
                  <a:pt x="3994" y="6060"/>
                  <a:pt x="4018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3120" y="2098800"/>
            <a:ext cx="81000" cy="152280"/>
          </a:xfrm>
          <a:custGeom>
            <a:avLst/>
            <a:gdLst/>
            <a:ahLst/>
            <a:rect l="l" t="t" r="r" b="b"/>
            <a:pathLst>
              <a:path w="224" h="423">
                <a:moveTo>
                  <a:pt x="4242" y="5829"/>
                </a:moveTo>
                <a:cubicBezTo>
                  <a:pt x="4122" y="5842"/>
                  <a:pt x="4063" y="5866"/>
                  <a:pt x="4142" y="5978"/>
                </a:cubicBezTo>
                <a:cubicBezTo>
                  <a:pt x="4178" y="6029"/>
                  <a:pt x="4205" y="5916"/>
                  <a:pt x="4266" y="5928"/>
                </a:cubicBezTo>
                <a:cubicBezTo>
                  <a:pt x="4274" y="5936"/>
                  <a:pt x="4283" y="5945"/>
                  <a:pt x="4291" y="5953"/>
                </a:cubicBezTo>
                <a:cubicBezTo>
                  <a:pt x="4319" y="6072"/>
                  <a:pt x="4346" y="6181"/>
                  <a:pt x="4217" y="6251"/>
                </a:cubicBezTo>
                <a:cubicBezTo>
                  <a:pt x="4174" y="6251"/>
                  <a:pt x="4171" y="6234"/>
                  <a:pt x="4217" y="617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6040" y="2044800"/>
            <a:ext cx="9720" cy="135000"/>
          </a:xfrm>
          <a:custGeom>
            <a:avLst/>
            <a:gdLst/>
            <a:ahLst/>
            <a:rect l="l" t="t" r="r" b="b"/>
            <a:pathLst>
              <a:path w="25" h="373">
                <a:moveTo>
                  <a:pt x="4490" y="5680"/>
                </a:moveTo>
                <a:cubicBezTo>
                  <a:pt x="4497" y="5805"/>
                  <a:pt x="4514" y="5926"/>
                  <a:pt x="4514" y="60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2054160"/>
            <a:ext cx="214200" cy="108000"/>
          </a:xfrm>
          <a:custGeom>
            <a:avLst/>
            <a:gdLst/>
            <a:ahLst/>
            <a:rect l="l" t="t" r="r" b="b"/>
            <a:pathLst>
              <a:path w="596" h="299">
                <a:moveTo>
                  <a:pt x="4366" y="5904"/>
                </a:moveTo>
                <a:cubicBezTo>
                  <a:pt x="4539" y="5904"/>
                  <a:pt x="4603" y="5919"/>
                  <a:pt x="4713" y="5779"/>
                </a:cubicBezTo>
                <a:cubicBezTo>
                  <a:pt x="4733" y="5739"/>
                  <a:pt x="4742" y="5733"/>
                  <a:pt x="4738" y="5705"/>
                </a:cubicBezTo>
                <a:cubicBezTo>
                  <a:pt x="4738" y="5798"/>
                  <a:pt x="4754" y="5886"/>
                  <a:pt x="4762" y="5978"/>
                </a:cubicBezTo>
                <a:cubicBezTo>
                  <a:pt x="4804" y="5895"/>
                  <a:pt x="4839" y="5820"/>
                  <a:pt x="4911" y="5904"/>
                </a:cubicBezTo>
                <a:cubicBezTo>
                  <a:pt x="4949" y="5960"/>
                  <a:pt x="4966" y="5963"/>
                  <a:pt x="4961" y="60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 Students will find the Surface Area of a Rectangular Pr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4647960" cy="289548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495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0040" y="4749840"/>
            <a:ext cx="838080" cy="206280"/>
          </a:xfrm>
          <a:custGeom>
            <a:avLst/>
            <a:gdLst/>
            <a:ahLst/>
            <a:rect l="l" t="t" r="r" b="b"/>
            <a:pathLst>
              <a:path w="2332" h="572">
                <a:moveTo>
                  <a:pt x="14436" y="13419"/>
                </a:moveTo>
                <a:cubicBezTo>
                  <a:pt x="14384" y="13437"/>
                  <a:pt x="14367" y="13605"/>
                  <a:pt x="14387" y="13667"/>
                </a:cubicBezTo>
                <a:cubicBezTo>
                  <a:pt x="14450" y="13859"/>
                  <a:pt x="14634" y="13562"/>
                  <a:pt x="14660" y="13519"/>
                </a:cubicBezTo>
                <a:cubicBezTo>
                  <a:pt x="14557" y="13637"/>
                  <a:pt x="14631" y="13723"/>
                  <a:pt x="14808" y="13692"/>
                </a:cubicBezTo>
                <a:cubicBezTo>
                  <a:pt x="15044" y="13650"/>
                  <a:pt x="14997" y="13497"/>
                  <a:pt x="14808" y="13469"/>
                </a:cubicBezTo>
                <a:cubicBezTo>
                  <a:pt x="14800" y="13469"/>
                  <a:pt x="14792" y="13469"/>
                  <a:pt x="14784" y="13469"/>
                </a:cubicBezTo>
              </a:path>
              <a:path w="2332" h="572">
                <a:moveTo>
                  <a:pt x="15156" y="13469"/>
                </a:moveTo>
                <a:cubicBezTo>
                  <a:pt x="15161" y="13576"/>
                  <a:pt x="15141" y="13653"/>
                  <a:pt x="15205" y="13717"/>
                </a:cubicBezTo>
              </a:path>
              <a:path w="2332" h="572">
                <a:moveTo>
                  <a:pt x="15156" y="13395"/>
                </a:moveTo>
                <a:cubicBezTo>
                  <a:pt x="15148" y="13387"/>
                  <a:pt x="15139" y="13378"/>
                  <a:pt x="15131" y="13370"/>
                </a:cubicBezTo>
              </a:path>
              <a:path w="2332" h="572">
                <a:moveTo>
                  <a:pt x="15131" y="13370"/>
                </a:moveTo>
                <a:lnTo>
                  <a:pt x="15131" y="13370"/>
                </a:lnTo>
              </a:path>
              <a:path w="2332" h="572">
                <a:moveTo>
                  <a:pt x="15553" y="13469"/>
                </a:moveTo>
                <a:cubicBezTo>
                  <a:pt x="15561" y="13469"/>
                  <a:pt x="15569" y="13469"/>
                  <a:pt x="15577" y="13469"/>
                </a:cubicBezTo>
                <a:cubicBezTo>
                  <a:pt x="15517" y="13348"/>
                  <a:pt x="15390" y="13526"/>
                  <a:pt x="15354" y="13593"/>
                </a:cubicBezTo>
                <a:cubicBezTo>
                  <a:pt x="15215" y="13850"/>
                  <a:pt x="15525" y="13707"/>
                  <a:pt x="15602" y="13618"/>
                </a:cubicBezTo>
              </a:path>
              <a:path w="2332" h="572">
                <a:moveTo>
                  <a:pt x="15528" y="13246"/>
                </a:moveTo>
                <a:cubicBezTo>
                  <a:pt x="15589" y="13416"/>
                  <a:pt x="15615" y="13590"/>
                  <a:pt x="15652" y="13767"/>
                </a:cubicBezTo>
              </a:path>
              <a:path w="2332" h="572">
                <a:moveTo>
                  <a:pt x="15900" y="13221"/>
                </a:moveTo>
                <a:cubicBezTo>
                  <a:pt x="15936" y="13387"/>
                  <a:pt x="15966" y="13551"/>
                  <a:pt x="15999" y="13717"/>
                </a:cubicBezTo>
              </a:path>
              <a:path w="2332" h="572">
                <a:moveTo>
                  <a:pt x="15701" y="13519"/>
                </a:moveTo>
                <a:cubicBezTo>
                  <a:pt x="15900" y="13531"/>
                  <a:pt x="16227" y="13608"/>
                  <a:pt x="16247" y="13320"/>
                </a:cubicBezTo>
                <a:cubicBezTo>
                  <a:pt x="16239" y="13279"/>
                  <a:pt x="16230" y="13237"/>
                  <a:pt x="16222" y="13196"/>
                </a:cubicBezTo>
                <a:cubicBezTo>
                  <a:pt x="16241" y="13328"/>
                  <a:pt x="16278" y="13475"/>
                  <a:pt x="16297" y="13618"/>
                </a:cubicBezTo>
                <a:cubicBezTo>
                  <a:pt x="16297" y="13626"/>
                  <a:pt x="16297" y="13635"/>
                  <a:pt x="16297" y="13643"/>
                </a:cubicBezTo>
                <a:cubicBezTo>
                  <a:pt x="16351" y="13522"/>
                  <a:pt x="16399" y="13291"/>
                  <a:pt x="16570" y="13419"/>
                </a:cubicBezTo>
                <a:cubicBezTo>
                  <a:pt x="16625" y="13460"/>
                  <a:pt x="16751" y="13785"/>
                  <a:pt x="16694" y="1366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9960" y="5089680"/>
            <a:ext cx="1143000" cy="277560"/>
          </a:xfrm>
          <a:custGeom>
            <a:avLst/>
            <a:gdLst/>
            <a:ahLst/>
            <a:rect l="l" t="t" r="r" b="b"/>
            <a:pathLst>
              <a:path w="3176" h="770">
                <a:moveTo>
                  <a:pt x="5606" y="14238"/>
                </a:moveTo>
                <a:cubicBezTo>
                  <a:pt x="5701" y="14270"/>
                  <a:pt x="5574" y="14161"/>
                  <a:pt x="5531" y="14163"/>
                </a:cubicBezTo>
                <a:cubicBezTo>
                  <a:pt x="5371" y="14169"/>
                  <a:pt x="5263" y="14237"/>
                  <a:pt x="5184" y="14362"/>
                </a:cubicBezTo>
                <a:cubicBezTo>
                  <a:pt x="5162" y="14406"/>
                  <a:pt x="5149" y="14417"/>
                  <a:pt x="5184" y="14436"/>
                </a:cubicBezTo>
                <a:cubicBezTo>
                  <a:pt x="5307" y="14459"/>
                  <a:pt x="5542" y="14434"/>
                  <a:pt x="5631" y="14536"/>
                </a:cubicBezTo>
                <a:cubicBezTo>
                  <a:pt x="5783" y="14710"/>
                  <a:pt x="5583" y="14887"/>
                  <a:pt x="5432" y="14908"/>
                </a:cubicBezTo>
                <a:cubicBezTo>
                  <a:pt x="5381" y="14915"/>
                  <a:pt x="5075" y="14826"/>
                  <a:pt x="5110" y="14784"/>
                </a:cubicBezTo>
                <a:cubicBezTo>
                  <a:pt x="5126" y="14776"/>
                  <a:pt x="5143" y="14767"/>
                  <a:pt x="5159" y="14759"/>
                </a:cubicBezTo>
              </a:path>
              <a:path w="3176" h="770">
                <a:moveTo>
                  <a:pt x="6028" y="14461"/>
                </a:moveTo>
                <a:cubicBezTo>
                  <a:pt x="6139" y="14455"/>
                  <a:pt x="6240" y="14443"/>
                  <a:pt x="6350" y="14436"/>
                </a:cubicBezTo>
              </a:path>
              <a:path w="3176" h="770">
                <a:moveTo>
                  <a:pt x="5928" y="14660"/>
                </a:moveTo>
                <a:cubicBezTo>
                  <a:pt x="6077" y="14691"/>
                  <a:pt x="6200" y="14680"/>
                  <a:pt x="6350" y="14660"/>
                </a:cubicBezTo>
                <a:cubicBezTo>
                  <a:pt x="6358" y="14660"/>
                  <a:pt x="6367" y="14660"/>
                  <a:pt x="6375" y="14660"/>
                </a:cubicBezTo>
              </a:path>
              <a:path w="3176" h="770">
                <a:moveTo>
                  <a:pt x="6846" y="14337"/>
                </a:moveTo>
                <a:cubicBezTo>
                  <a:pt x="6811" y="14286"/>
                  <a:pt x="6860" y="14256"/>
                  <a:pt x="6921" y="14213"/>
                </a:cubicBezTo>
                <a:cubicBezTo>
                  <a:pt x="6968" y="14180"/>
                  <a:pt x="7054" y="14136"/>
                  <a:pt x="7119" y="14163"/>
                </a:cubicBezTo>
                <a:cubicBezTo>
                  <a:pt x="7163" y="14181"/>
                  <a:pt x="7206" y="14294"/>
                  <a:pt x="7193" y="14337"/>
                </a:cubicBezTo>
                <a:cubicBezTo>
                  <a:pt x="7162" y="14440"/>
                  <a:pt x="7033" y="14470"/>
                  <a:pt x="6970" y="14536"/>
                </a:cubicBezTo>
                <a:cubicBezTo>
                  <a:pt x="6902" y="14608"/>
                  <a:pt x="6805" y="14700"/>
                  <a:pt x="6747" y="14784"/>
                </a:cubicBezTo>
                <a:cubicBezTo>
                  <a:pt x="6739" y="14800"/>
                  <a:pt x="6730" y="14817"/>
                  <a:pt x="6722" y="14833"/>
                </a:cubicBezTo>
                <a:cubicBezTo>
                  <a:pt x="6676" y="14879"/>
                  <a:pt x="6767" y="14795"/>
                  <a:pt x="6821" y="14759"/>
                </a:cubicBezTo>
                <a:cubicBezTo>
                  <a:pt x="6954" y="14669"/>
                  <a:pt x="6949" y="14682"/>
                  <a:pt x="7045" y="14784"/>
                </a:cubicBezTo>
                <a:cubicBezTo>
                  <a:pt x="7094" y="14836"/>
                  <a:pt x="7202" y="14899"/>
                  <a:pt x="7268" y="14833"/>
                </a:cubicBezTo>
                <a:cubicBezTo>
                  <a:pt x="7268" y="14825"/>
                  <a:pt x="7268" y="14816"/>
                  <a:pt x="7268" y="14808"/>
                </a:cubicBezTo>
              </a:path>
              <a:path w="3176" h="770">
                <a:moveTo>
                  <a:pt x="7466" y="14139"/>
                </a:moveTo>
                <a:cubicBezTo>
                  <a:pt x="7466" y="14299"/>
                  <a:pt x="7449" y="14452"/>
                  <a:pt x="7441" y="14610"/>
                </a:cubicBezTo>
                <a:cubicBezTo>
                  <a:pt x="7435" y="14724"/>
                  <a:pt x="7450" y="14761"/>
                  <a:pt x="7466" y="14858"/>
                </a:cubicBezTo>
              </a:path>
              <a:path w="3176" h="770">
                <a:moveTo>
                  <a:pt x="7714" y="14486"/>
                </a:moveTo>
                <a:cubicBezTo>
                  <a:pt x="7702" y="14607"/>
                  <a:pt x="7667" y="14712"/>
                  <a:pt x="7714" y="14833"/>
                </a:cubicBezTo>
                <a:cubicBezTo>
                  <a:pt x="7722" y="14841"/>
                  <a:pt x="7731" y="14850"/>
                  <a:pt x="7739" y="14858"/>
                </a:cubicBezTo>
                <a:cubicBezTo>
                  <a:pt x="7864" y="14835"/>
                  <a:pt x="7935" y="14774"/>
                  <a:pt x="7962" y="14635"/>
                </a:cubicBezTo>
                <a:cubicBezTo>
                  <a:pt x="7962" y="14577"/>
                  <a:pt x="7962" y="14569"/>
                  <a:pt x="7962" y="14536"/>
                </a:cubicBezTo>
                <a:cubicBezTo>
                  <a:pt x="7962" y="14478"/>
                  <a:pt x="7962" y="14602"/>
                  <a:pt x="7962" y="14660"/>
                </a:cubicBezTo>
                <a:cubicBezTo>
                  <a:pt x="7962" y="14798"/>
                  <a:pt x="8006" y="14827"/>
                  <a:pt x="8136" y="14833"/>
                </a:cubicBezTo>
                <a:cubicBezTo>
                  <a:pt x="8279" y="14840"/>
                  <a:pt x="8282" y="14687"/>
                  <a:pt x="8285" y="14585"/>
                </a:cubicBezTo>
                <a:cubicBezTo>
                  <a:pt x="8288" y="14507"/>
                  <a:pt x="8274" y="14518"/>
                  <a:pt x="8260" y="1446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43160" y="5187960"/>
            <a:ext cx="115920" cy="115920"/>
          </a:xfrm>
          <a:custGeom>
            <a:avLst/>
            <a:gdLst/>
            <a:ahLst/>
            <a:rect l="l" t="t" r="r" b="b"/>
            <a:pathLst>
              <a:path w="324" h="323">
                <a:moveTo>
                  <a:pt x="8880" y="14412"/>
                </a:moveTo>
                <a:cubicBezTo>
                  <a:pt x="8880" y="14475"/>
                  <a:pt x="8847" y="14715"/>
                  <a:pt x="8905" y="14734"/>
                </a:cubicBezTo>
              </a:path>
              <a:path w="324" h="323">
                <a:moveTo>
                  <a:pt x="8731" y="14560"/>
                </a:moveTo>
                <a:cubicBezTo>
                  <a:pt x="8841" y="14552"/>
                  <a:pt x="8945" y="14525"/>
                  <a:pt x="9054" y="145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4080" y="5081760"/>
            <a:ext cx="1508040" cy="258480"/>
          </a:xfrm>
          <a:custGeom>
            <a:avLst/>
            <a:gdLst/>
            <a:ahLst/>
            <a:rect l="l" t="t" r="r" b="b"/>
            <a:pathLst>
              <a:path w="4193" h="720">
                <a:moveTo>
                  <a:pt x="9550" y="14288"/>
                </a:moveTo>
                <a:cubicBezTo>
                  <a:pt x="9580" y="14213"/>
                  <a:pt x="9619" y="14133"/>
                  <a:pt x="9723" y="14139"/>
                </a:cubicBezTo>
                <a:cubicBezTo>
                  <a:pt x="9774" y="14142"/>
                  <a:pt x="9801" y="14178"/>
                  <a:pt x="9823" y="14213"/>
                </a:cubicBezTo>
                <a:cubicBezTo>
                  <a:pt x="9866" y="14280"/>
                  <a:pt x="9833" y="14296"/>
                  <a:pt x="9798" y="14362"/>
                </a:cubicBezTo>
                <a:cubicBezTo>
                  <a:pt x="9759" y="14436"/>
                  <a:pt x="9686" y="14457"/>
                  <a:pt x="9624" y="14511"/>
                </a:cubicBezTo>
                <a:cubicBezTo>
                  <a:pt x="9540" y="14584"/>
                  <a:pt x="9481" y="14677"/>
                  <a:pt x="9451" y="14784"/>
                </a:cubicBezTo>
                <a:cubicBezTo>
                  <a:pt x="9425" y="14877"/>
                  <a:pt x="9433" y="14797"/>
                  <a:pt x="9475" y="14759"/>
                </a:cubicBezTo>
                <a:cubicBezTo>
                  <a:pt x="9521" y="14717"/>
                  <a:pt x="9633" y="14612"/>
                  <a:pt x="9699" y="14684"/>
                </a:cubicBezTo>
                <a:cubicBezTo>
                  <a:pt x="9781" y="14774"/>
                  <a:pt x="9750" y="14800"/>
                  <a:pt x="9897" y="14808"/>
                </a:cubicBezTo>
                <a:cubicBezTo>
                  <a:pt x="9922" y="14808"/>
                  <a:pt x="9930" y="14808"/>
                  <a:pt x="9922" y="14784"/>
                </a:cubicBezTo>
              </a:path>
              <a:path w="4193" h="720">
                <a:moveTo>
                  <a:pt x="10244" y="14114"/>
                </a:moveTo>
                <a:cubicBezTo>
                  <a:pt x="10221" y="14231"/>
                  <a:pt x="10203" y="14362"/>
                  <a:pt x="10195" y="14486"/>
                </a:cubicBezTo>
                <a:cubicBezTo>
                  <a:pt x="10189" y="14584"/>
                  <a:pt x="10195" y="14685"/>
                  <a:pt x="10195" y="14784"/>
                </a:cubicBezTo>
              </a:path>
              <a:path w="4193" h="720">
                <a:moveTo>
                  <a:pt x="10542" y="14114"/>
                </a:moveTo>
                <a:cubicBezTo>
                  <a:pt x="10520" y="14265"/>
                  <a:pt x="10495" y="14406"/>
                  <a:pt x="10492" y="14560"/>
                </a:cubicBezTo>
                <a:cubicBezTo>
                  <a:pt x="10490" y="14635"/>
                  <a:pt x="10492" y="14709"/>
                  <a:pt x="10492" y="14784"/>
                </a:cubicBezTo>
                <a:cubicBezTo>
                  <a:pt x="10506" y="14687"/>
                  <a:pt x="10512" y="14580"/>
                  <a:pt x="10542" y="14486"/>
                </a:cubicBezTo>
                <a:cubicBezTo>
                  <a:pt x="10566" y="14412"/>
                  <a:pt x="10662" y="14355"/>
                  <a:pt x="10740" y="14387"/>
                </a:cubicBezTo>
                <a:cubicBezTo>
                  <a:pt x="10824" y="14421"/>
                  <a:pt x="10853" y="14609"/>
                  <a:pt x="10840" y="14684"/>
                </a:cubicBezTo>
                <a:cubicBezTo>
                  <a:pt x="10832" y="14731"/>
                  <a:pt x="10815" y="14757"/>
                  <a:pt x="10815" y="14808"/>
                </a:cubicBezTo>
              </a:path>
              <a:path w="4193" h="720">
                <a:moveTo>
                  <a:pt x="11237" y="14387"/>
                </a:moveTo>
                <a:cubicBezTo>
                  <a:pt x="11279" y="14460"/>
                  <a:pt x="11272" y="14572"/>
                  <a:pt x="11286" y="14660"/>
                </a:cubicBezTo>
                <a:cubicBezTo>
                  <a:pt x="11286" y="14684"/>
                  <a:pt x="11286" y="14693"/>
                  <a:pt x="11286" y="14709"/>
                </a:cubicBezTo>
              </a:path>
              <a:path w="4193" h="720">
                <a:moveTo>
                  <a:pt x="11162" y="14560"/>
                </a:moveTo>
                <a:cubicBezTo>
                  <a:pt x="11268" y="14560"/>
                  <a:pt x="11361" y="14565"/>
                  <a:pt x="11460" y="14585"/>
                </a:cubicBezTo>
              </a:path>
              <a:path w="4193" h="720">
                <a:moveTo>
                  <a:pt x="11832" y="14238"/>
                </a:moveTo>
                <a:cubicBezTo>
                  <a:pt x="11873" y="14224"/>
                  <a:pt x="11891" y="14157"/>
                  <a:pt x="11956" y="14139"/>
                </a:cubicBezTo>
                <a:cubicBezTo>
                  <a:pt x="12018" y="14122"/>
                  <a:pt x="12074" y="14150"/>
                  <a:pt x="12129" y="14163"/>
                </a:cubicBezTo>
                <a:cubicBezTo>
                  <a:pt x="12192" y="14178"/>
                  <a:pt x="12224" y="14190"/>
                  <a:pt x="12229" y="14263"/>
                </a:cubicBezTo>
                <a:cubicBezTo>
                  <a:pt x="12233" y="14324"/>
                  <a:pt x="12132" y="14395"/>
                  <a:pt x="12080" y="14436"/>
                </a:cubicBezTo>
                <a:cubicBezTo>
                  <a:pt x="11972" y="14521"/>
                  <a:pt x="11919" y="14578"/>
                  <a:pt x="11832" y="14684"/>
                </a:cubicBezTo>
                <a:cubicBezTo>
                  <a:pt x="11787" y="14729"/>
                  <a:pt x="11770" y="14739"/>
                  <a:pt x="11782" y="14784"/>
                </a:cubicBezTo>
                <a:cubicBezTo>
                  <a:pt x="11740" y="14763"/>
                  <a:pt x="11817" y="14729"/>
                  <a:pt x="11857" y="14709"/>
                </a:cubicBezTo>
                <a:cubicBezTo>
                  <a:pt x="11955" y="14658"/>
                  <a:pt x="11992" y="14612"/>
                  <a:pt x="12055" y="14684"/>
                </a:cubicBezTo>
                <a:cubicBezTo>
                  <a:pt x="12110" y="14748"/>
                  <a:pt x="12244" y="14801"/>
                  <a:pt x="12328" y="14759"/>
                </a:cubicBezTo>
                <a:cubicBezTo>
                  <a:pt x="12328" y="14751"/>
                  <a:pt x="12328" y="14742"/>
                  <a:pt x="12328" y="14734"/>
                </a:cubicBezTo>
              </a:path>
              <a:path w="4193" h="720">
                <a:moveTo>
                  <a:pt x="12576" y="14436"/>
                </a:moveTo>
                <a:cubicBezTo>
                  <a:pt x="12536" y="14505"/>
                  <a:pt x="12485" y="14613"/>
                  <a:pt x="12526" y="14684"/>
                </a:cubicBezTo>
                <a:cubicBezTo>
                  <a:pt x="12599" y="14810"/>
                  <a:pt x="12706" y="14602"/>
                  <a:pt x="12725" y="14560"/>
                </a:cubicBezTo>
                <a:cubicBezTo>
                  <a:pt x="12725" y="14552"/>
                  <a:pt x="12725" y="14544"/>
                  <a:pt x="12725" y="14536"/>
                </a:cubicBezTo>
                <a:cubicBezTo>
                  <a:pt x="12725" y="14587"/>
                  <a:pt x="12705" y="14718"/>
                  <a:pt x="12750" y="14759"/>
                </a:cubicBezTo>
                <a:cubicBezTo>
                  <a:pt x="12862" y="14859"/>
                  <a:pt x="12995" y="14685"/>
                  <a:pt x="12998" y="14585"/>
                </a:cubicBezTo>
                <a:cubicBezTo>
                  <a:pt x="13000" y="14540"/>
                  <a:pt x="12957" y="14480"/>
                  <a:pt x="12948" y="14436"/>
                </a:cubicBezTo>
              </a:path>
              <a:path w="4193" h="720">
                <a:moveTo>
                  <a:pt x="13171" y="14139"/>
                </a:moveTo>
                <a:cubicBezTo>
                  <a:pt x="13171" y="14324"/>
                  <a:pt x="13178" y="14501"/>
                  <a:pt x="13196" y="14684"/>
                </a:cubicBezTo>
                <a:cubicBezTo>
                  <a:pt x="13196" y="14701"/>
                  <a:pt x="13196" y="14717"/>
                  <a:pt x="13196" y="14734"/>
                </a:cubicBezTo>
                <a:cubicBezTo>
                  <a:pt x="13241" y="14719"/>
                  <a:pt x="13253" y="14616"/>
                  <a:pt x="13271" y="14560"/>
                </a:cubicBezTo>
                <a:cubicBezTo>
                  <a:pt x="13299" y="14475"/>
                  <a:pt x="13302" y="14417"/>
                  <a:pt x="13395" y="14412"/>
                </a:cubicBezTo>
                <a:cubicBezTo>
                  <a:pt x="13515" y="14405"/>
                  <a:pt x="13539" y="14547"/>
                  <a:pt x="13568" y="14635"/>
                </a:cubicBezTo>
                <a:cubicBezTo>
                  <a:pt x="13569" y="14639"/>
                  <a:pt x="13589" y="14805"/>
                  <a:pt x="13593" y="14808"/>
                </a:cubicBezTo>
                <a:cubicBezTo>
                  <a:pt x="13618" y="14808"/>
                  <a:pt x="13626" y="14808"/>
                  <a:pt x="13618" y="148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43080" y="5402160"/>
            <a:ext cx="2982960" cy="420840"/>
          </a:xfrm>
          <a:custGeom>
            <a:avLst/>
            <a:gdLst/>
            <a:ahLst/>
            <a:rect l="l" t="t" r="r" b="b"/>
            <a:pathLst>
              <a:path w="8286" h="1167">
                <a:moveTo>
                  <a:pt x="5953" y="15478"/>
                </a:moveTo>
                <a:cubicBezTo>
                  <a:pt x="6032" y="15478"/>
                  <a:pt x="6097" y="15438"/>
                  <a:pt x="6176" y="15429"/>
                </a:cubicBezTo>
                <a:cubicBezTo>
                  <a:pt x="6254" y="15429"/>
                  <a:pt x="6272" y="15413"/>
                  <a:pt x="6300" y="15453"/>
                </a:cubicBezTo>
              </a:path>
              <a:path w="8286" h="1167">
                <a:moveTo>
                  <a:pt x="6003" y="15627"/>
                </a:moveTo>
                <a:cubicBezTo>
                  <a:pt x="6099" y="15627"/>
                  <a:pt x="6183" y="15610"/>
                  <a:pt x="6276" y="15602"/>
                </a:cubicBezTo>
                <a:cubicBezTo>
                  <a:pt x="6284" y="15602"/>
                  <a:pt x="6292" y="15602"/>
                  <a:pt x="6300" y="15602"/>
                </a:cubicBezTo>
              </a:path>
              <a:path w="8286" h="1167">
                <a:moveTo>
                  <a:pt x="6623" y="15404"/>
                </a:moveTo>
                <a:cubicBezTo>
                  <a:pt x="6623" y="15333"/>
                  <a:pt x="6648" y="15308"/>
                  <a:pt x="6697" y="15255"/>
                </a:cubicBezTo>
                <a:cubicBezTo>
                  <a:pt x="6764" y="15183"/>
                  <a:pt x="6827" y="15183"/>
                  <a:pt x="6871" y="15280"/>
                </a:cubicBezTo>
                <a:cubicBezTo>
                  <a:pt x="6941" y="15435"/>
                  <a:pt x="6767" y="15595"/>
                  <a:pt x="6672" y="15701"/>
                </a:cubicBezTo>
                <a:cubicBezTo>
                  <a:pt x="6578" y="15806"/>
                  <a:pt x="6516" y="15917"/>
                  <a:pt x="6424" y="16024"/>
                </a:cubicBezTo>
                <a:cubicBezTo>
                  <a:pt x="6476" y="15947"/>
                  <a:pt x="6466" y="15913"/>
                  <a:pt x="6573" y="15900"/>
                </a:cubicBezTo>
                <a:cubicBezTo>
                  <a:pt x="6685" y="15887"/>
                  <a:pt x="6762" y="15997"/>
                  <a:pt x="6871" y="15974"/>
                </a:cubicBezTo>
                <a:cubicBezTo>
                  <a:pt x="6915" y="15965"/>
                  <a:pt x="6931" y="15934"/>
                  <a:pt x="6970" y="15925"/>
                </a:cubicBezTo>
              </a:path>
              <a:path w="8286" h="1167">
                <a:moveTo>
                  <a:pt x="7218" y="15081"/>
                </a:moveTo>
                <a:cubicBezTo>
                  <a:pt x="7156" y="15162"/>
                  <a:pt x="7085" y="15273"/>
                  <a:pt x="7069" y="15379"/>
                </a:cubicBezTo>
                <a:cubicBezTo>
                  <a:pt x="7057" y="15459"/>
                  <a:pt x="7045" y="15545"/>
                  <a:pt x="7045" y="15627"/>
                </a:cubicBezTo>
                <a:cubicBezTo>
                  <a:pt x="7045" y="15700"/>
                  <a:pt x="7047" y="15762"/>
                  <a:pt x="7069" y="15825"/>
                </a:cubicBezTo>
                <a:cubicBezTo>
                  <a:pt x="7089" y="15882"/>
                  <a:pt x="7122" y="15945"/>
                  <a:pt x="7144" y="15999"/>
                </a:cubicBezTo>
                <a:cubicBezTo>
                  <a:pt x="7164" y="16048"/>
                  <a:pt x="7169" y="16082"/>
                  <a:pt x="7193" y="16123"/>
                </a:cubicBezTo>
                <a:cubicBezTo>
                  <a:pt x="7193" y="16090"/>
                  <a:pt x="7203" y="16020"/>
                  <a:pt x="7218" y="16049"/>
                </a:cubicBezTo>
                <a:cubicBezTo>
                  <a:pt x="7218" y="16057"/>
                  <a:pt x="7218" y="16065"/>
                  <a:pt x="7218" y="16073"/>
                </a:cubicBezTo>
              </a:path>
              <a:path w="8286" h="1167">
                <a:moveTo>
                  <a:pt x="7268" y="15528"/>
                </a:moveTo>
                <a:cubicBezTo>
                  <a:pt x="7215" y="15528"/>
                  <a:pt x="7317" y="15496"/>
                  <a:pt x="7342" y="15478"/>
                </a:cubicBezTo>
                <a:cubicBezTo>
                  <a:pt x="7365" y="15455"/>
                  <a:pt x="7369" y="15447"/>
                  <a:pt x="7392" y="15453"/>
                </a:cubicBezTo>
                <a:cubicBezTo>
                  <a:pt x="7408" y="15548"/>
                  <a:pt x="7406" y="15638"/>
                  <a:pt x="7342" y="15726"/>
                </a:cubicBezTo>
                <a:cubicBezTo>
                  <a:pt x="7300" y="15783"/>
                  <a:pt x="7227" y="15831"/>
                  <a:pt x="7193" y="15875"/>
                </a:cubicBezTo>
                <a:cubicBezTo>
                  <a:pt x="7185" y="15883"/>
                  <a:pt x="7177" y="15892"/>
                  <a:pt x="7169" y="15900"/>
                </a:cubicBezTo>
                <a:cubicBezTo>
                  <a:pt x="7233" y="15883"/>
                  <a:pt x="7264" y="15855"/>
                  <a:pt x="7342" y="15850"/>
                </a:cubicBezTo>
                <a:cubicBezTo>
                  <a:pt x="7412" y="15846"/>
                  <a:pt x="7438" y="15923"/>
                  <a:pt x="7516" y="15900"/>
                </a:cubicBezTo>
                <a:cubicBezTo>
                  <a:pt x="7532" y="15892"/>
                  <a:pt x="7549" y="15883"/>
                  <a:pt x="7565" y="15875"/>
                </a:cubicBezTo>
              </a:path>
              <a:path w="8286" h="1167">
                <a:moveTo>
                  <a:pt x="7665" y="15503"/>
                </a:moveTo>
                <a:cubicBezTo>
                  <a:pt x="7558" y="15503"/>
                  <a:pt x="7553" y="15553"/>
                  <a:pt x="7516" y="15652"/>
                </a:cubicBezTo>
                <a:cubicBezTo>
                  <a:pt x="7495" y="15708"/>
                  <a:pt x="7495" y="15840"/>
                  <a:pt x="7565" y="15875"/>
                </a:cubicBezTo>
                <a:cubicBezTo>
                  <a:pt x="7632" y="15909"/>
                  <a:pt x="7730" y="15863"/>
                  <a:pt x="7764" y="15801"/>
                </a:cubicBezTo>
                <a:cubicBezTo>
                  <a:pt x="7808" y="15721"/>
                  <a:pt x="7789" y="15648"/>
                  <a:pt x="7739" y="15577"/>
                </a:cubicBezTo>
                <a:cubicBezTo>
                  <a:pt x="7716" y="15545"/>
                  <a:pt x="7698" y="15553"/>
                  <a:pt x="7665" y="15553"/>
                </a:cubicBezTo>
              </a:path>
              <a:path w="8286" h="1167">
                <a:moveTo>
                  <a:pt x="7987" y="15627"/>
                </a:moveTo>
                <a:cubicBezTo>
                  <a:pt x="7987" y="15594"/>
                  <a:pt x="7954" y="15630"/>
                  <a:pt x="7987" y="15627"/>
                </a:cubicBezTo>
                <a:cubicBezTo>
                  <a:pt x="8031" y="15605"/>
                  <a:pt x="8043" y="15602"/>
                  <a:pt x="8062" y="15577"/>
                </a:cubicBezTo>
                <a:cubicBezTo>
                  <a:pt x="8043" y="15522"/>
                  <a:pt x="7981" y="15586"/>
                  <a:pt x="7987" y="15627"/>
                </a:cubicBezTo>
                <a:cubicBezTo>
                  <a:pt x="7997" y="15694"/>
                  <a:pt x="8098" y="15508"/>
                  <a:pt x="8037" y="15577"/>
                </a:cubicBezTo>
                <a:cubicBezTo>
                  <a:pt x="8029" y="15594"/>
                  <a:pt x="8020" y="15610"/>
                  <a:pt x="8012" y="15627"/>
                </a:cubicBezTo>
              </a:path>
              <a:path w="8286" h="1167">
                <a:moveTo>
                  <a:pt x="8384" y="15404"/>
                </a:moveTo>
                <a:cubicBezTo>
                  <a:pt x="8379" y="15399"/>
                  <a:pt x="8268" y="15346"/>
                  <a:pt x="8235" y="15379"/>
                </a:cubicBezTo>
                <a:cubicBezTo>
                  <a:pt x="8188" y="15426"/>
                  <a:pt x="8193" y="15542"/>
                  <a:pt x="8210" y="15577"/>
                </a:cubicBezTo>
                <a:cubicBezTo>
                  <a:pt x="8330" y="15564"/>
                  <a:pt x="8407" y="15505"/>
                  <a:pt x="8483" y="15627"/>
                </a:cubicBezTo>
                <a:cubicBezTo>
                  <a:pt x="8554" y="15741"/>
                  <a:pt x="8441" y="15850"/>
                  <a:pt x="8334" y="15875"/>
                </a:cubicBezTo>
                <a:cubicBezTo>
                  <a:pt x="8266" y="15891"/>
                  <a:pt x="8211" y="15880"/>
                  <a:pt x="8161" y="15850"/>
                </a:cubicBezTo>
              </a:path>
              <a:path w="8286" h="1167">
                <a:moveTo>
                  <a:pt x="8359" y="15131"/>
                </a:moveTo>
                <a:cubicBezTo>
                  <a:pt x="8499" y="15154"/>
                  <a:pt x="8575" y="15240"/>
                  <a:pt x="8657" y="15354"/>
                </a:cubicBezTo>
                <a:cubicBezTo>
                  <a:pt x="8748" y="15480"/>
                  <a:pt x="8800" y="15651"/>
                  <a:pt x="8756" y="15801"/>
                </a:cubicBezTo>
                <a:cubicBezTo>
                  <a:pt x="8732" y="15881"/>
                  <a:pt x="8645" y="16028"/>
                  <a:pt x="8582" y="16073"/>
                </a:cubicBezTo>
                <a:cubicBezTo>
                  <a:pt x="8561" y="16088"/>
                  <a:pt x="8520" y="16142"/>
                  <a:pt x="8508" y="16148"/>
                </a:cubicBezTo>
                <a:cubicBezTo>
                  <a:pt x="8500" y="16148"/>
                  <a:pt x="8491" y="16148"/>
                  <a:pt x="8483" y="16148"/>
                </a:cubicBezTo>
              </a:path>
              <a:path w="8286" h="1167">
                <a:moveTo>
                  <a:pt x="9004" y="15379"/>
                </a:moveTo>
                <a:cubicBezTo>
                  <a:pt x="9037" y="15434"/>
                  <a:pt x="9049" y="15603"/>
                  <a:pt x="9054" y="15701"/>
                </a:cubicBezTo>
                <a:cubicBezTo>
                  <a:pt x="9054" y="15709"/>
                  <a:pt x="9054" y="15718"/>
                  <a:pt x="9054" y="15726"/>
                </a:cubicBezTo>
              </a:path>
              <a:path w="8286" h="1167">
                <a:moveTo>
                  <a:pt x="8905" y="15627"/>
                </a:moveTo>
                <a:cubicBezTo>
                  <a:pt x="8998" y="15611"/>
                  <a:pt x="9081" y="15602"/>
                  <a:pt x="9178" y="15602"/>
                </a:cubicBezTo>
                <a:cubicBezTo>
                  <a:pt x="9203" y="15602"/>
                  <a:pt x="9211" y="15602"/>
                  <a:pt x="9227" y="15602"/>
                </a:cubicBezTo>
              </a:path>
              <a:path w="8286" h="1167">
                <a:moveTo>
                  <a:pt x="9475" y="15329"/>
                </a:moveTo>
                <a:cubicBezTo>
                  <a:pt x="9486" y="15266"/>
                  <a:pt x="9509" y="15261"/>
                  <a:pt x="9575" y="15230"/>
                </a:cubicBezTo>
                <a:cubicBezTo>
                  <a:pt x="9603" y="15217"/>
                  <a:pt x="9687" y="15143"/>
                  <a:pt x="9723" y="15180"/>
                </a:cubicBezTo>
                <a:cubicBezTo>
                  <a:pt x="9767" y="15225"/>
                  <a:pt x="9758" y="15313"/>
                  <a:pt x="9723" y="15354"/>
                </a:cubicBezTo>
                <a:cubicBezTo>
                  <a:pt x="9672" y="15413"/>
                  <a:pt x="9618" y="15445"/>
                  <a:pt x="9575" y="15503"/>
                </a:cubicBezTo>
                <a:cubicBezTo>
                  <a:pt x="9515" y="15584"/>
                  <a:pt x="9483" y="15654"/>
                  <a:pt x="9451" y="15751"/>
                </a:cubicBezTo>
                <a:cubicBezTo>
                  <a:pt x="9426" y="15825"/>
                  <a:pt x="9395" y="15909"/>
                  <a:pt x="9351" y="15974"/>
                </a:cubicBezTo>
                <a:cubicBezTo>
                  <a:pt x="9329" y="16006"/>
                  <a:pt x="9302" y="16095"/>
                  <a:pt x="9302" y="16049"/>
                </a:cubicBezTo>
                <a:cubicBezTo>
                  <a:pt x="9337" y="16001"/>
                  <a:pt x="9366" y="15948"/>
                  <a:pt x="9401" y="15900"/>
                </a:cubicBezTo>
                <a:cubicBezTo>
                  <a:pt x="9447" y="15911"/>
                  <a:pt x="9502" y="15952"/>
                  <a:pt x="9550" y="15974"/>
                </a:cubicBezTo>
                <a:cubicBezTo>
                  <a:pt x="9651" y="16020"/>
                  <a:pt x="9681" y="15958"/>
                  <a:pt x="9748" y="15925"/>
                </a:cubicBezTo>
              </a:path>
              <a:path w="8286" h="1167">
                <a:moveTo>
                  <a:pt x="10021" y="15007"/>
                </a:moveTo>
                <a:cubicBezTo>
                  <a:pt x="9959" y="15084"/>
                  <a:pt x="9921" y="15158"/>
                  <a:pt x="9897" y="15255"/>
                </a:cubicBezTo>
                <a:cubicBezTo>
                  <a:pt x="9864" y="15385"/>
                  <a:pt x="9829" y="15519"/>
                  <a:pt x="9823" y="15652"/>
                </a:cubicBezTo>
                <a:cubicBezTo>
                  <a:pt x="9820" y="15719"/>
                  <a:pt x="9822" y="15816"/>
                  <a:pt x="9847" y="15875"/>
                </a:cubicBezTo>
                <a:cubicBezTo>
                  <a:pt x="9868" y="15923"/>
                  <a:pt x="9912" y="15975"/>
                  <a:pt x="9922" y="16024"/>
                </a:cubicBezTo>
                <a:cubicBezTo>
                  <a:pt x="9934" y="16082"/>
                  <a:pt x="9937" y="16126"/>
                  <a:pt x="9971" y="16173"/>
                </a:cubicBezTo>
              </a:path>
              <a:path w="8286" h="1167">
                <a:moveTo>
                  <a:pt x="10170" y="15379"/>
                </a:moveTo>
                <a:cubicBezTo>
                  <a:pt x="10145" y="15379"/>
                  <a:pt x="10137" y="15379"/>
                  <a:pt x="10145" y="15404"/>
                </a:cubicBezTo>
              </a:path>
              <a:path w="8286" h="1167">
                <a:moveTo>
                  <a:pt x="10145" y="15379"/>
                </a:moveTo>
                <a:lnTo>
                  <a:pt x="10145" y="15379"/>
                </a:lnTo>
              </a:path>
              <a:path w="8286" h="1167">
                <a:moveTo>
                  <a:pt x="10145" y="15379"/>
                </a:moveTo>
                <a:lnTo>
                  <a:pt x="10145" y="15379"/>
                </a:lnTo>
              </a:path>
              <a:path w="8286" h="1167">
                <a:moveTo>
                  <a:pt x="10195" y="15329"/>
                </a:moveTo>
                <a:cubicBezTo>
                  <a:pt x="10202" y="15307"/>
                  <a:pt x="10233" y="15284"/>
                  <a:pt x="10269" y="15304"/>
                </a:cubicBezTo>
                <a:cubicBezTo>
                  <a:pt x="10307" y="15325"/>
                  <a:pt x="10355" y="15374"/>
                  <a:pt x="10319" y="15429"/>
                </a:cubicBezTo>
                <a:cubicBezTo>
                  <a:pt x="10259" y="15520"/>
                  <a:pt x="10143" y="15599"/>
                  <a:pt x="10071" y="15677"/>
                </a:cubicBezTo>
                <a:cubicBezTo>
                  <a:pt x="9996" y="15758"/>
                  <a:pt x="9965" y="15766"/>
                  <a:pt x="9947" y="15875"/>
                </a:cubicBezTo>
                <a:cubicBezTo>
                  <a:pt x="10017" y="15814"/>
                  <a:pt x="10074" y="15757"/>
                  <a:pt x="10170" y="15751"/>
                </a:cubicBezTo>
                <a:cubicBezTo>
                  <a:pt x="10263" y="15745"/>
                  <a:pt x="10213" y="15814"/>
                  <a:pt x="10294" y="15801"/>
                </a:cubicBezTo>
                <a:cubicBezTo>
                  <a:pt x="10327" y="15793"/>
                  <a:pt x="10360" y="15784"/>
                  <a:pt x="10393" y="15776"/>
                </a:cubicBezTo>
              </a:path>
              <a:path w="8286" h="1167">
                <a:moveTo>
                  <a:pt x="10616" y="15329"/>
                </a:moveTo>
                <a:cubicBezTo>
                  <a:pt x="10520" y="15378"/>
                  <a:pt x="10442" y="15514"/>
                  <a:pt x="10418" y="15627"/>
                </a:cubicBezTo>
                <a:cubicBezTo>
                  <a:pt x="10418" y="15717"/>
                  <a:pt x="10411" y="15743"/>
                  <a:pt x="10468" y="15776"/>
                </a:cubicBezTo>
                <a:cubicBezTo>
                  <a:pt x="10613" y="15760"/>
                  <a:pt x="10681" y="15677"/>
                  <a:pt x="10716" y="15528"/>
                </a:cubicBezTo>
                <a:cubicBezTo>
                  <a:pt x="10745" y="15403"/>
                  <a:pt x="10662" y="15391"/>
                  <a:pt x="10567" y="15379"/>
                </a:cubicBezTo>
              </a:path>
              <a:path w="8286" h="1167">
                <a:moveTo>
                  <a:pt x="10939" y="15553"/>
                </a:moveTo>
                <a:cubicBezTo>
                  <a:pt x="10939" y="15495"/>
                  <a:pt x="10919" y="15602"/>
                  <a:pt x="10914" y="15627"/>
                </a:cubicBezTo>
                <a:cubicBezTo>
                  <a:pt x="10930" y="15623"/>
                  <a:pt x="11030" y="15548"/>
                  <a:pt x="10964" y="15553"/>
                </a:cubicBezTo>
                <a:cubicBezTo>
                  <a:pt x="10860" y="15561"/>
                  <a:pt x="10937" y="15650"/>
                  <a:pt x="10988" y="15577"/>
                </a:cubicBezTo>
                <a:cubicBezTo>
                  <a:pt x="10980" y="15577"/>
                  <a:pt x="10972" y="15577"/>
                  <a:pt x="10964" y="15577"/>
                </a:cubicBezTo>
              </a:path>
              <a:path w="8286" h="1167">
                <a:moveTo>
                  <a:pt x="11187" y="15280"/>
                </a:moveTo>
                <a:cubicBezTo>
                  <a:pt x="11212" y="15280"/>
                  <a:pt x="11220" y="15280"/>
                  <a:pt x="11212" y="15255"/>
                </a:cubicBezTo>
                <a:cubicBezTo>
                  <a:pt x="11241" y="15354"/>
                  <a:pt x="11212" y="15502"/>
                  <a:pt x="11212" y="15627"/>
                </a:cubicBezTo>
                <a:cubicBezTo>
                  <a:pt x="11212" y="15701"/>
                  <a:pt x="11212" y="15710"/>
                  <a:pt x="11212" y="15751"/>
                </a:cubicBezTo>
              </a:path>
              <a:path w="8286" h="1167">
                <a:moveTo>
                  <a:pt x="11534" y="15304"/>
                </a:moveTo>
                <a:cubicBezTo>
                  <a:pt x="11479" y="15341"/>
                  <a:pt x="11456" y="15518"/>
                  <a:pt x="11435" y="15602"/>
                </a:cubicBezTo>
                <a:cubicBezTo>
                  <a:pt x="11413" y="15691"/>
                  <a:pt x="11397" y="15716"/>
                  <a:pt x="11460" y="15751"/>
                </a:cubicBezTo>
                <a:cubicBezTo>
                  <a:pt x="11569" y="15762"/>
                  <a:pt x="11729" y="15686"/>
                  <a:pt x="11708" y="15528"/>
                </a:cubicBezTo>
                <a:cubicBezTo>
                  <a:pt x="11701" y="15478"/>
                  <a:pt x="11617" y="15393"/>
                  <a:pt x="11584" y="15354"/>
                </a:cubicBezTo>
              </a:path>
              <a:path w="8286" h="1167">
                <a:moveTo>
                  <a:pt x="11633" y="15056"/>
                </a:moveTo>
                <a:cubicBezTo>
                  <a:pt x="11592" y="15056"/>
                  <a:pt x="11679" y="15117"/>
                  <a:pt x="11708" y="15156"/>
                </a:cubicBezTo>
                <a:cubicBezTo>
                  <a:pt x="11796" y="15275"/>
                  <a:pt x="11879" y="15404"/>
                  <a:pt x="11906" y="15553"/>
                </a:cubicBezTo>
                <a:cubicBezTo>
                  <a:pt x="11919" y="15627"/>
                  <a:pt x="11922" y="15758"/>
                  <a:pt x="11881" y="15825"/>
                </a:cubicBezTo>
                <a:cubicBezTo>
                  <a:pt x="11844" y="15887"/>
                  <a:pt x="11763" y="15919"/>
                  <a:pt x="11733" y="15974"/>
                </a:cubicBezTo>
                <a:cubicBezTo>
                  <a:pt x="11729" y="15981"/>
                  <a:pt x="11714" y="16044"/>
                  <a:pt x="11708" y="16049"/>
                </a:cubicBezTo>
                <a:cubicBezTo>
                  <a:pt x="11700" y="16049"/>
                  <a:pt x="11691" y="16049"/>
                  <a:pt x="11683" y="16049"/>
                </a:cubicBezTo>
              </a:path>
              <a:path w="8286" h="1167">
                <a:moveTo>
                  <a:pt x="12254" y="15404"/>
                </a:moveTo>
                <a:cubicBezTo>
                  <a:pt x="12254" y="15516"/>
                  <a:pt x="12244" y="15616"/>
                  <a:pt x="12229" y="15726"/>
                </a:cubicBezTo>
                <a:cubicBezTo>
                  <a:pt x="12229" y="15734"/>
                  <a:pt x="12229" y="15743"/>
                  <a:pt x="12229" y="15751"/>
                </a:cubicBezTo>
              </a:path>
              <a:path w="8286" h="1167">
                <a:moveTo>
                  <a:pt x="12105" y="15627"/>
                </a:moveTo>
                <a:cubicBezTo>
                  <a:pt x="12214" y="15617"/>
                  <a:pt x="12316" y="15602"/>
                  <a:pt x="12427" y="15602"/>
                </a:cubicBezTo>
              </a:path>
              <a:path w="8286" h="1167">
                <a:moveTo>
                  <a:pt x="12774" y="15304"/>
                </a:moveTo>
                <a:cubicBezTo>
                  <a:pt x="12792" y="15256"/>
                  <a:pt x="12867" y="15150"/>
                  <a:pt x="12948" y="15156"/>
                </a:cubicBezTo>
                <a:cubicBezTo>
                  <a:pt x="12956" y="15164"/>
                  <a:pt x="12965" y="15172"/>
                  <a:pt x="12973" y="15180"/>
                </a:cubicBezTo>
                <a:cubicBezTo>
                  <a:pt x="13005" y="15358"/>
                  <a:pt x="12918" y="15488"/>
                  <a:pt x="12799" y="15627"/>
                </a:cubicBezTo>
                <a:cubicBezTo>
                  <a:pt x="12743" y="15693"/>
                  <a:pt x="12607" y="15890"/>
                  <a:pt x="12526" y="15925"/>
                </a:cubicBezTo>
                <a:cubicBezTo>
                  <a:pt x="12526" y="15900"/>
                  <a:pt x="12526" y="15892"/>
                  <a:pt x="12551" y="15900"/>
                </a:cubicBezTo>
                <a:cubicBezTo>
                  <a:pt x="12646" y="15814"/>
                  <a:pt x="12670" y="15803"/>
                  <a:pt x="12799" y="15850"/>
                </a:cubicBezTo>
                <a:cubicBezTo>
                  <a:pt x="12876" y="15878"/>
                  <a:pt x="12970" y="15892"/>
                  <a:pt x="13047" y="15850"/>
                </a:cubicBezTo>
                <a:cubicBezTo>
                  <a:pt x="13055" y="15842"/>
                  <a:pt x="13064" y="15833"/>
                  <a:pt x="13072" y="15825"/>
                </a:cubicBezTo>
              </a:path>
              <a:path w="8286" h="1167">
                <a:moveTo>
                  <a:pt x="13395" y="15131"/>
                </a:moveTo>
                <a:cubicBezTo>
                  <a:pt x="13273" y="15131"/>
                  <a:pt x="13252" y="15287"/>
                  <a:pt x="13221" y="15379"/>
                </a:cubicBezTo>
                <a:cubicBezTo>
                  <a:pt x="13152" y="15584"/>
                  <a:pt x="13148" y="15743"/>
                  <a:pt x="13171" y="15949"/>
                </a:cubicBezTo>
                <a:cubicBezTo>
                  <a:pt x="13178" y="16010"/>
                  <a:pt x="13184" y="16000"/>
                  <a:pt x="13221" y="16049"/>
                </a:cubicBezTo>
              </a:path>
              <a:path w="8286" h="1167">
                <a:moveTo>
                  <a:pt x="13692" y="15304"/>
                </a:moveTo>
                <a:cubicBezTo>
                  <a:pt x="13717" y="15304"/>
                  <a:pt x="13742" y="15304"/>
                  <a:pt x="13767" y="15304"/>
                </a:cubicBezTo>
                <a:cubicBezTo>
                  <a:pt x="13753" y="15347"/>
                  <a:pt x="13600" y="15346"/>
                  <a:pt x="13543" y="15354"/>
                </a:cubicBezTo>
                <a:cubicBezTo>
                  <a:pt x="13500" y="15360"/>
                  <a:pt x="13519" y="15436"/>
                  <a:pt x="13519" y="15478"/>
                </a:cubicBezTo>
                <a:cubicBezTo>
                  <a:pt x="13519" y="15530"/>
                  <a:pt x="13520" y="15548"/>
                  <a:pt x="13543" y="15577"/>
                </a:cubicBezTo>
                <a:cubicBezTo>
                  <a:pt x="13637" y="15540"/>
                  <a:pt x="13672" y="15502"/>
                  <a:pt x="13791" y="15553"/>
                </a:cubicBezTo>
                <a:cubicBezTo>
                  <a:pt x="13904" y="15602"/>
                  <a:pt x="13935" y="15760"/>
                  <a:pt x="13841" y="15850"/>
                </a:cubicBezTo>
                <a:cubicBezTo>
                  <a:pt x="13720" y="15967"/>
                  <a:pt x="13589" y="15947"/>
                  <a:pt x="13469" y="15900"/>
                </a:cubicBezTo>
                <a:cubicBezTo>
                  <a:pt x="13444" y="15900"/>
                  <a:pt x="13436" y="15900"/>
                  <a:pt x="13444" y="15875"/>
                </a:cubicBezTo>
              </a:path>
              <a:path w="8286" h="1167">
                <a:moveTo>
                  <a:pt x="14238" y="15528"/>
                </a:moveTo>
                <a:cubicBezTo>
                  <a:pt x="14193" y="15539"/>
                  <a:pt x="14174" y="15557"/>
                  <a:pt x="14163" y="15602"/>
                </a:cubicBezTo>
                <a:cubicBezTo>
                  <a:pt x="14207" y="15529"/>
                  <a:pt x="14158" y="15485"/>
                  <a:pt x="14089" y="15553"/>
                </a:cubicBezTo>
                <a:cubicBezTo>
                  <a:pt x="14089" y="15577"/>
                  <a:pt x="14089" y="15586"/>
                  <a:pt x="14089" y="15602"/>
                </a:cubicBezTo>
                <a:cubicBezTo>
                  <a:pt x="14137" y="15602"/>
                  <a:pt x="14182" y="15535"/>
                  <a:pt x="14139" y="15553"/>
                </a:cubicBezTo>
                <a:cubicBezTo>
                  <a:pt x="14116" y="15575"/>
                  <a:pt x="14111" y="15583"/>
                  <a:pt x="14089" y="155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49880" y="5384880"/>
            <a:ext cx="304920" cy="366480"/>
          </a:xfrm>
          <a:custGeom>
            <a:avLst/>
            <a:gdLst/>
            <a:ahLst/>
            <a:rect l="l" t="t" r="r" b="b"/>
            <a:pathLst>
              <a:path w="845" h="1018">
                <a:moveTo>
                  <a:pt x="14585" y="15180"/>
                </a:moveTo>
                <a:cubicBezTo>
                  <a:pt x="14585" y="15358"/>
                  <a:pt x="14590" y="15526"/>
                  <a:pt x="14610" y="15701"/>
                </a:cubicBezTo>
                <a:cubicBezTo>
                  <a:pt x="14610" y="15726"/>
                  <a:pt x="14610" y="15734"/>
                  <a:pt x="14610" y="15751"/>
                </a:cubicBezTo>
              </a:path>
              <a:path w="845" h="1018">
                <a:moveTo>
                  <a:pt x="15007" y="15205"/>
                </a:moveTo>
                <a:cubicBezTo>
                  <a:pt x="14937" y="15299"/>
                  <a:pt x="14898" y="15405"/>
                  <a:pt x="14883" y="15528"/>
                </a:cubicBezTo>
                <a:cubicBezTo>
                  <a:pt x="14883" y="15629"/>
                  <a:pt x="14873" y="15650"/>
                  <a:pt x="14908" y="15701"/>
                </a:cubicBezTo>
                <a:cubicBezTo>
                  <a:pt x="15073" y="15735"/>
                  <a:pt x="15161" y="15657"/>
                  <a:pt x="15156" y="15478"/>
                </a:cubicBezTo>
                <a:cubicBezTo>
                  <a:pt x="15153" y="15387"/>
                  <a:pt x="15090" y="15352"/>
                  <a:pt x="15032" y="15304"/>
                </a:cubicBezTo>
              </a:path>
              <a:path w="845" h="1018">
                <a:moveTo>
                  <a:pt x="15007" y="14957"/>
                </a:moveTo>
                <a:cubicBezTo>
                  <a:pt x="15164" y="14983"/>
                  <a:pt x="15255" y="15121"/>
                  <a:pt x="15329" y="15255"/>
                </a:cubicBezTo>
                <a:cubicBezTo>
                  <a:pt x="15423" y="15424"/>
                  <a:pt x="15487" y="15671"/>
                  <a:pt x="15379" y="15850"/>
                </a:cubicBezTo>
                <a:cubicBezTo>
                  <a:pt x="15349" y="15899"/>
                  <a:pt x="15278" y="15955"/>
                  <a:pt x="15230" y="159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7800" y="5759280"/>
            <a:ext cx="2670120" cy="420840"/>
          </a:xfrm>
          <a:custGeom>
            <a:avLst/>
            <a:gdLst/>
            <a:ahLst/>
            <a:rect l="l" t="t" r="r" b="b"/>
            <a:pathLst>
              <a:path w="7417" h="1167">
                <a:moveTo>
                  <a:pt x="5606" y="16768"/>
                </a:moveTo>
                <a:cubicBezTo>
                  <a:pt x="5648" y="16761"/>
                  <a:pt x="5779" y="16690"/>
                  <a:pt x="5804" y="16694"/>
                </a:cubicBezTo>
                <a:cubicBezTo>
                  <a:pt x="5804" y="16702"/>
                  <a:pt x="5804" y="16710"/>
                  <a:pt x="5804" y="16718"/>
                </a:cubicBezTo>
              </a:path>
              <a:path w="7417" h="1167">
                <a:moveTo>
                  <a:pt x="5606" y="16966"/>
                </a:moveTo>
                <a:cubicBezTo>
                  <a:pt x="5661" y="16946"/>
                  <a:pt x="5697" y="16942"/>
                  <a:pt x="5755" y="16942"/>
                </a:cubicBezTo>
              </a:path>
              <a:path w="7417" h="1167">
                <a:moveTo>
                  <a:pt x="6201" y="16619"/>
                </a:moveTo>
                <a:cubicBezTo>
                  <a:pt x="6261" y="16530"/>
                  <a:pt x="6312" y="16458"/>
                  <a:pt x="6424" y="16446"/>
                </a:cubicBezTo>
                <a:cubicBezTo>
                  <a:pt x="6514" y="16437"/>
                  <a:pt x="6546" y="16541"/>
                  <a:pt x="6524" y="16619"/>
                </a:cubicBezTo>
                <a:cubicBezTo>
                  <a:pt x="6470" y="16809"/>
                  <a:pt x="6288" y="16877"/>
                  <a:pt x="6176" y="17016"/>
                </a:cubicBezTo>
                <a:cubicBezTo>
                  <a:pt x="6115" y="17092"/>
                  <a:pt x="6101" y="17166"/>
                  <a:pt x="6127" y="17066"/>
                </a:cubicBezTo>
                <a:cubicBezTo>
                  <a:pt x="6286" y="16934"/>
                  <a:pt x="6372" y="16869"/>
                  <a:pt x="6573" y="16942"/>
                </a:cubicBezTo>
                <a:cubicBezTo>
                  <a:pt x="6657" y="16973"/>
                  <a:pt x="6624" y="16970"/>
                  <a:pt x="6722" y="16942"/>
                </a:cubicBezTo>
              </a:path>
              <a:path w="7417" h="1167">
                <a:moveTo>
                  <a:pt x="6896" y="16222"/>
                </a:moveTo>
                <a:cubicBezTo>
                  <a:pt x="6765" y="16297"/>
                  <a:pt x="6769" y="16427"/>
                  <a:pt x="6747" y="16570"/>
                </a:cubicBezTo>
                <a:cubicBezTo>
                  <a:pt x="6712" y="16798"/>
                  <a:pt x="6679" y="16901"/>
                  <a:pt x="6796" y="17090"/>
                </a:cubicBezTo>
                <a:cubicBezTo>
                  <a:pt x="6830" y="17144"/>
                  <a:pt x="6803" y="17151"/>
                  <a:pt x="6846" y="17165"/>
                </a:cubicBezTo>
              </a:path>
              <a:path w="7417" h="1167">
                <a:moveTo>
                  <a:pt x="7020" y="16520"/>
                </a:moveTo>
                <a:cubicBezTo>
                  <a:pt x="7020" y="16672"/>
                  <a:pt x="7009" y="16816"/>
                  <a:pt x="6995" y="16966"/>
                </a:cubicBezTo>
                <a:cubicBezTo>
                  <a:pt x="6995" y="17011"/>
                  <a:pt x="6992" y="17031"/>
                  <a:pt x="7020" y="16991"/>
                </a:cubicBezTo>
              </a:path>
              <a:path w="7417" h="1167">
                <a:moveTo>
                  <a:pt x="7293" y="16545"/>
                </a:moveTo>
                <a:cubicBezTo>
                  <a:pt x="7202" y="16734"/>
                  <a:pt x="7149" y="16821"/>
                  <a:pt x="7268" y="16991"/>
                </a:cubicBezTo>
                <a:cubicBezTo>
                  <a:pt x="7435" y="16939"/>
                  <a:pt x="7559" y="16902"/>
                  <a:pt x="7491" y="16694"/>
                </a:cubicBezTo>
                <a:cubicBezTo>
                  <a:pt x="7455" y="16584"/>
                  <a:pt x="7291" y="16581"/>
                  <a:pt x="7293" y="16619"/>
                </a:cubicBezTo>
              </a:path>
              <a:path w="7417" h="1167">
                <a:moveTo>
                  <a:pt x="7640" y="16470"/>
                </a:moveTo>
                <a:cubicBezTo>
                  <a:pt x="7622" y="16580"/>
                  <a:pt x="7562" y="16705"/>
                  <a:pt x="7565" y="16818"/>
                </a:cubicBezTo>
                <a:cubicBezTo>
                  <a:pt x="7573" y="16843"/>
                  <a:pt x="7582" y="16867"/>
                  <a:pt x="7590" y="16892"/>
                </a:cubicBezTo>
                <a:cubicBezTo>
                  <a:pt x="7733" y="16903"/>
                  <a:pt x="7891" y="16855"/>
                  <a:pt x="7838" y="16669"/>
                </a:cubicBezTo>
                <a:cubicBezTo>
                  <a:pt x="7789" y="16594"/>
                  <a:pt x="7773" y="16569"/>
                  <a:pt x="7714" y="16545"/>
                </a:cubicBezTo>
              </a:path>
              <a:path w="7417" h="1167">
                <a:moveTo>
                  <a:pt x="7689" y="16173"/>
                </a:moveTo>
                <a:cubicBezTo>
                  <a:pt x="7825" y="16351"/>
                  <a:pt x="7982" y="16516"/>
                  <a:pt x="8012" y="16743"/>
                </a:cubicBezTo>
                <a:cubicBezTo>
                  <a:pt x="8024" y="16839"/>
                  <a:pt x="7999" y="16999"/>
                  <a:pt x="7913" y="17066"/>
                </a:cubicBezTo>
                <a:cubicBezTo>
                  <a:pt x="7888" y="17066"/>
                  <a:pt x="7880" y="17066"/>
                  <a:pt x="7888" y="17041"/>
                </a:cubicBezTo>
              </a:path>
              <a:path w="7417" h="1167">
                <a:moveTo>
                  <a:pt x="8285" y="16470"/>
                </a:moveTo>
                <a:cubicBezTo>
                  <a:pt x="8285" y="16400"/>
                  <a:pt x="8317" y="16551"/>
                  <a:pt x="8334" y="16619"/>
                </a:cubicBezTo>
                <a:cubicBezTo>
                  <a:pt x="8352" y="16690"/>
                  <a:pt x="8359" y="16726"/>
                  <a:pt x="8359" y="16793"/>
                </a:cubicBezTo>
              </a:path>
              <a:path w="7417" h="1167">
                <a:moveTo>
                  <a:pt x="8161" y="16694"/>
                </a:moveTo>
                <a:cubicBezTo>
                  <a:pt x="8283" y="16635"/>
                  <a:pt x="8376" y="16604"/>
                  <a:pt x="8508" y="16570"/>
                </a:cubicBezTo>
              </a:path>
              <a:path w="7417" h="1167">
                <a:moveTo>
                  <a:pt x="8731" y="16371"/>
                </a:moveTo>
                <a:cubicBezTo>
                  <a:pt x="8831" y="16288"/>
                  <a:pt x="8935" y="16235"/>
                  <a:pt x="9004" y="16396"/>
                </a:cubicBezTo>
                <a:cubicBezTo>
                  <a:pt x="9083" y="16579"/>
                  <a:pt x="8950" y="16841"/>
                  <a:pt x="8756" y="16892"/>
                </a:cubicBezTo>
                <a:cubicBezTo>
                  <a:pt x="8731" y="16884"/>
                  <a:pt x="8707" y="16875"/>
                  <a:pt x="8682" y="16867"/>
                </a:cubicBezTo>
                <a:cubicBezTo>
                  <a:pt x="8651" y="16698"/>
                  <a:pt x="8749" y="16711"/>
                  <a:pt x="8905" y="16743"/>
                </a:cubicBezTo>
                <a:cubicBezTo>
                  <a:pt x="9052" y="16774"/>
                  <a:pt x="8958" y="16821"/>
                  <a:pt x="9103" y="16768"/>
                </a:cubicBezTo>
              </a:path>
              <a:path w="7417" h="1167">
                <a:moveTo>
                  <a:pt x="9277" y="16148"/>
                </a:moveTo>
                <a:cubicBezTo>
                  <a:pt x="9171" y="16254"/>
                  <a:pt x="9112" y="16503"/>
                  <a:pt x="9128" y="16669"/>
                </a:cubicBezTo>
                <a:cubicBezTo>
                  <a:pt x="9136" y="16752"/>
                  <a:pt x="9212" y="16954"/>
                  <a:pt x="9277" y="16991"/>
                </a:cubicBezTo>
                <a:cubicBezTo>
                  <a:pt x="9285" y="16991"/>
                  <a:pt x="9294" y="16991"/>
                  <a:pt x="9302" y="16991"/>
                </a:cubicBezTo>
              </a:path>
              <a:path w="7417" h="1167">
                <a:moveTo>
                  <a:pt x="9525" y="16470"/>
                </a:moveTo>
                <a:cubicBezTo>
                  <a:pt x="9480" y="16438"/>
                  <a:pt x="9473" y="16461"/>
                  <a:pt x="9500" y="16421"/>
                </a:cubicBezTo>
                <a:cubicBezTo>
                  <a:pt x="9678" y="16302"/>
                  <a:pt x="9695" y="16481"/>
                  <a:pt x="9624" y="16644"/>
                </a:cubicBezTo>
                <a:cubicBezTo>
                  <a:pt x="9552" y="16809"/>
                  <a:pt x="9412" y="16943"/>
                  <a:pt x="9302" y="16818"/>
                </a:cubicBezTo>
                <a:cubicBezTo>
                  <a:pt x="9409" y="16710"/>
                  <a:pt x="9513" y="16744"/>
                  <a:pt x="9649" y="16818"/>
                </a:cubicBezTo>
                <a:cubicBezTo>
                  <a:pt x="9684" y="16852"/>
                  <a:pt x="9706" y="16856"/>
                  <a:pt x="9748" y="16818"/>
                </a:cubicBezTo>
              </a:path>
              <a:path w="7417" h="1167">
                <a:moveTo>
                  <a:pt x="9897" y="16396"/>
                </a:moveTo>
                <a:cubicBezTo>
                  <a:pt x="9756" y="16538"/>
                  <a:pt x="9745" y="16629"/>
                  <a:pt x="9798" y="16818"/>
                </a:cubicBezTo>
                <a:cubicBezTo>
                  <a:pt x="9924" y="16803"/>
                  <a:pt x="10180" y="16769"/>
                  <a:pt x="10120" y="16570"/>
                </a:cubicBezTo>
                <a:cubicBezTo>
                  <a:pt x="10080" y="16438"/>
                  <a:pt x="9979" y="16455"/>
                  <a:pt x="9872" y="16446"/>
                </a:cubicBezTo>
              </a:path>
              <a:path w="7417" h="1167">
                <a:moveTo>
                  <a:pt x="10368" y="16346"/>
                </a:moveTo>
                <a:cubicBezTo>
                  <a:pt x="10219" y="16476"/>
                  <a:pt x="10213" y="16548"/>
                  <a:pt x="10195" y="16743"/>
                </a:cubicBezTo>
                <a:cubicBezTo>
                  <a:pt x="10326" y="16790"/>
                  <a:pt x="10527" y="16799"/>
                  <a:pt x="10542" y="16594"/>
                </a:cubicBezTo>
                <a:cubicBezTo>
                  <a:pt x="10553" y="16445"/>
                  <a:pt x="10446" y="16434"/>
                  <a:pt x="10344" y="16371"/>
                </a:cubicBezTo>
              </a:path>
              <a:path w="7417" h="1167">
                <a:moveTo>
                  <a:pt x="10393" y="16123"/>
                </a:moveTo>
                <a:cubicBezTo>
                  <a:pt x="10522" y="16315"/>
                  <a:pt x="10801" y="16508"/>
                  <a:pt x="10790" y="16768"/>
                </a:cubicBezTo>
                <a:cubicBezTo>
                  <a:pt x="10781" y="16973"/>
                  <a:pt x="10558" y="17170"/>
                  <a:pt x="10492" y="16942"/>
                </a:cubicBezTo>
              </a:path>
              <a:path w="7417" h="1167">
                <a:moveTo>
                  <a:pt x="11013" y="16346"/>
                </a:moveTo>
                <a:cubicBezTo>
                  <a:pt x="11040" y="16469"/>
                  <a:pt x="11070" y="16594"/>
                  <a:pt x="11088" y="16718"/>
                </a:cubicBezTo>
              </a:path>
              <a:path w="7417" h="1167">
                <a:moveTo>
                  <a:pt x="10889" y="16545"/>
                </a:moveTo>
                <a:cubicBezTo>
                  <a:pt x="11044" y="16490"/>
                  <a:pt x="11176" y="16455"/>
                  <a:pt x="11336" y="16421"/>
                </a:cubicBezTo>
              </a:path>
              <a:path w="7417" h="1167">
                <a:moveTo>
                  <a:pt x="11460" y="16272"/>
                </a:moveTo>
                <a:cubicBezTo>
                  <a:pt x="11594" y="16272"/>
                  <a:pt x="11709" y="16384"/>
                  <a:pt x="11733" y="16520"/>
                </a:cubicBezTo>
                <a:cubicBezTo>
                  <a:pt x="11774" y="16753"/>
                  <a:pt x="11542" y="16790"/>
                  <a:pt x="11385" y="16768"/>
                </a:cubicBezTo>
                <a:cubicBezTo>
                  <a:pt x="11427" y="16573"/>
                  <a:pt x="11504" y="16616"/>
                  <a:pt x="11683" y="16694"/>
                </a:cubicBezTo>
                <a:cubicBezTo>
                  <a:pt x="11785" y="16738"/>
                  <a:pt x="11767" y="16767"/>
                  <a:pt x="11832" y="16718"/>
                </a:cubicBezTo>
              </a:path>
              <a:path w="7417" h="1167">
                <a:moveTo>
                  <a:pt x="12030" y="15999"/>
                </a:moveTo>
                <a:cubicBezTo>
                  <a:pt x="11950" y="16159"/>
                  <a:pt x="11840" y="16362"/>
                  <a:pt x="11832" y="16545"/>
                </a:cubicBezTo>
                <a:cubicBezTo>
                  <a:pt x="11825" y="16696"/>
                  <a:pt x="11892" y="16887"/>
                  <a:pt x="12030" y="16966"/>
                </a:cubicBezTo>
                <a:cubicBezTo>
                  <a:pt x="12038" y="16966"/>
                  <a:pt x="12047" y="16966"/>
                  <a:pt x="12055" y="16966"/>
                </a:cubicBezTo>
              </a:path>
              <a:path w="7417" h="1167">
                <a:moveTo>
                  <a:pt x="12427" y="16321"/>
                </a:moveTo>
                <a:cubicBezTo>
                  <a:pt x="12347" y="16321"/>
                  <a:pt x="12281" y="16340"/>
                  <a:pt x="12204" y="16346"/>
                </a:cubicBezTo>
                <a:cubicBezTo>
                  <a:pt x="12137" y="16351"/>
                  <a:pt x="12148" y="16361"/>
                  <a:pt x="12129" y="16446"/>
                </a:cubicBezTo>
                <a:cubicBezTo>
                  <a:pt x="12110" y="16547"/>
                  <a:pt x="12112" y="16567"/>
                  <a:pt x="12080" y="16619"/>
                </a:cubicBezTo>
                <a:cubicBezTo>
                  <a:pt x="12156" y="16594"/>
                  <a:pt x="12219" y="16486"/>
                  <a:pt x="12303" y="16495"/>
                </a:cubicBezTo>
                <a:cubicBezTo>
                  <a:pt x="12472" y="16513"/>
                  <a:pt x="12546" y="16654"/>
                  <a:pt x="12402" y="16768"/>
                </a:cubicBezTo>
                <a:cubicBezTo>
                  <a:pt x="12306" y="16845"/>
                  <a:pt x="12152" y="16835"/>
                  <a:pt x="12055" y="16793"/>
                </a:cubicBezTo>
              </a:path>
              <a:path w="7417" h="1167">
                <a:moveTo>
                  <a:pt x="12650" y="16321"/>
                </a:moveTo>
                <a:cubicBezTo>
                  <a:pt x="12578" y="16395"/>
                  <a:pt x="12522" y="16595"/>
                  <a:pt x="12526" y="16718"/>
                </a:cubicBezTo>
                <a:cubicBezTo>
                  <a:pt x="12534" y="16735"/>
                  <a:pt x="12543" y="16751"/>
                  <a:pt x="12551" y="16768"/>
                </a:cubicBezTo>
                <a:cubicBezTo>
                  <a:pt x="12651" y="16747"/>
                  <a:pt x="12907" y="16659"/>
                  <a:pt x="12774" y="16495"/>
                </a:cubicBezTo>
                <a:cubicBezTo>
                  <a:pt x="12687" y="16452"/>
                  <a:pt x="12664" y="16445"/>
                  <a:pt x="12626" y="16396"/>
                </a:cubicBezTo>
              </a:path>
              <a:path w="7417" h="1167">
                <a:moveTo>
                  <a:pt x="12700" y="16098"/>
                </a:moveTo>
                <a:cubicBezTo>
                  <a:pt x="12930" y="16295"/>
                  <a:pt x="13068" y="16398"/>
                  <a:pt x="12973" y="16718"/>
                </a:cubicBezTo>
                <a:cubicBezTo>
                  <a:pt x="12929" y="16864"/>
                  <a:pt x="12893" y="16897"/>
                  <a:pt x="12799" y="1699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38240" y="6276960"/>
            <a:ext cx="749520" cy="241200"/>
          </a:xfrm>
          <a:custGeom>
            <a:avLst/>
            <a:gdLst/>
            <a:ahLst/>
            <a:rect l="l" t="t" r="r" b="b"/>
            <a:pathLst>
              <a:path w="2084" h="670">
                <a:moveTo>
                  <a:pt x="5383" y="17884"/>
                </a:moveTo>
                <a:cubicBezTo>
                  <a:pt x="5464" y="17835"/>
                  <a:pt x="5587" y="17850"/>
                  <a:pt x="5680" y="17884"/>
                </a:cubicBezTo>
                <a:cubicBezTo>
                  <a:pt x="5688" y="17892"/>
                  <a:pt x="5697" y="17901"/>
                  <a:pt x="5705" y="17909"/>
                </a:cubicBezTo>
              </a:path>
              <a:path w="2084" h="670">
                <a:moveTo>
                  <a:pt x="5531" y="18058"/>
                </a:moveTo>
                <a:cubicBezTo>
                  <a:pt x="5618" y="18051"/>
                  <a:pt x="5697" y="18016"/>
                  <a:pt x="5779" y="18008"/>
                </a:cubicBezTo>
                <a:cubicBezTo>
                  <a:pt x="5787" y="18008"/>
                  <a:pt x="5796" y="18008"/>
                  <a:pt x="5804" y="18008"/>
                </a:cubicBezTo>
              </a:path>
              <a:path w="2084" h="670">
                <a:moveTo>
                  <a:pt x="6300" y="17438"/>
                </a:moveTo>
                <a:cubicBezTo>
                  <a:pt x="6300" y="17546"/>
                  <a:pt x="6270" y="17526"/>
                  <a:pt x="6350" y="17487"/>
                </a:cubicBezTo>
                <a:cubicBezTo>
                  <a:pt x="6613" y="17361"/>
                  <a:pt x="6540" y="17803"/>
                  <a:pt x="6474" y="17909"/>
                </a:cubicBezTo>
                <a:cubicBezTo>
                  <a:pt x="6359" y="18094"/>
                  <a:pt x="6203" y="18169"/>
                  <a:pt x="6102" y="17983"/>
                </a:cubicBezTo>
                <a:cubicBezTo>
                  <a:pt x="6275" y="17909"/>
                  <a:pt x="6362" y="17954"/>
                  <a:pt x="6524" y="18058"/>
                </a:cubicBezTo>
                <a:cubicBezTo>
                  <a:pt x="6558" y="18094"/>
                  <a:pt x="6580" y="18097"/>
                  <a:pt x="6623" y="18058"/>
                </a:cubicBezTo>
              </a:path>
              <a:path w="2084" h="670">
                <a:moveTo>
                  <a:pt x="6821" y="17636"/>
                </a:moveTo>
                <a:cubicBezTo>
                  <a:pt x="6738" y="17803"/>
                  <a:pt x="6714" y="17875"/>
                  <a:pt x="6722" y="18058"/>
                </a:cubicBezTo>
                <a:cubicBezTo>
                  <a:pt x="6861" y="18058"/>
                  <a:pt x="7140" y="17981"/>
                  <a:pt x="7020" y="17760"/>
                </a:cubicBezTo>
                <a:cubicBezTo>
                  <a:pt x="6958" y="17645"/>
                  <a:pt x="6815" y="17670"/>
                  <a:pt x="6722" y="17686"/>
                </a:cubicBezTo>
              </a:path>
              <a:path w="2084" h="670">
                <a:moveTo>
                  <a:pt x="7218" y="17562"/>
                </a:moveTo>
                <a:cubicBezTo>
                  <a:pt x="7130" y="17794"/>
                  <a:pt x="7081" y="17871"/>
                  <a:pt x="7243" y="18058"/>
                </a:cubicBezTo>
                <a:cubicBezTo>
                  <a:pt x="7387" y="18004"/>
                  <a:pt x="7575" y="17897"/>
                  <a:pt x="7417" y="17711"/>
                </a:cubicBezTo>
                <a:cubicBezTo>
                  <a:pt x="7334" y="17613"/>
                  <a:pt x="7204" y="17635"/>
                  <a:pt x="7094" y="176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3040" y="6276960"/>
            <a:ext cx="1312920" cy="206280"/>
          </a:xfrm>
          <a:custGeom>
            <a:avLst/>
            <a:gdLst/>
            <a:ahLst/>
            <a:rect l="l" t="t" r="r" b="b"/>
            <a:pathLst>
              <a:path w="3648" h="571">
                <a:moveTo>
                  <a:pt x="7987" y="17587"/>
                </a:moveTo>
                <a:cubicBezTo>
                  <a:pt x="7987" y="17674"/>
                  <a:pt x="7984" y="17751"/>
                  <a:pt x="8012" y="17835"/>
                </a:cubicBezTo>
                <a:cubicBezTo>
                  <a:pt x="8020" y="17851"/>
                  <a:pt x="8029" y="17868"/>
                  <a:pt x="8037" y="17884"/>
                </a:cubicBezTo>
              </a:path>
              <a:path w="3648" h="571">
                <a:moveTo>
                  <a:pt x="7813" y="17785"/>
                </a:moveTo>
                <a:cubicBezTo>
                  <a:pt x="7947" y="17746"/>
                  <a:pt x="8070" y="17699"/>
                  <a:pt x="8210" y="17686"/>
                </a:cubicBezTo>
              </a:path>
              <a:path w="3648" h="571">
                <a:moveTo>
                  <a:pt x="8558" y="17562"/>
                </a:moveTo>
                <a:cubicBezTo>
                  <a:pt x="8521" y="17487"/>
                  <a:pt x="8525" y="17607"/>
                  <a:pt x="8483" y="17686"/>
                </a:cubicBezTo>
                <a:cubicBezTo>
                  <a:pt x="8568" y="17677"/>
                  <a:pt x="8792" y="17593"/>
                  <a:pt x="8855" y="17611"/>
                </a:cubicBezTo>
                <a:cubicBezTo>
                  <a:pt x="8855" y="17619"/>
                  <a:pt x="8855" y="17628"/>
                  <a:pt x="8855" y="17636"/>
                </a:cubicBezTo>
              </a:path>
              <a:path w="3648" h="571">
                <a:moveTo>
                  <a:pt x="8806" y="17487"/>
                </a:moveTo>
                <a:cubicBezTo>
                  <a:pt x="8782" y="17654"/>
                  <a:pt x="8756" y="17815"/>
                  <a:pt x="8756" y="17983"/>
                </a:cubicBezTo>
              </a:path>
              <a:path w="3648" h="571">
                <a:moveTo>
                  <a:pt x="8954" y="17537"/>
                </a:moveTo>
                <a:cubicBezTo>
                  <a:pt x="8901" y="17685"/>
                  <a:pt x="8869" y="17804"/>
                  <a:pt x="8855" y="17959"/>
                </a:cubicBezTo>
                <a:cubicBezTo>
                  <a:pt x="8966" y="17981"/>
                  <a:pt x="9269" y="17934"/>
                  <a:pt x="9178" y="17711"/>
                </a:cubicBezTo>
                <a:cubicBezTo>
                  <a:pt x="9116" y="17559"/>
                  <a:pt x="8806" y="17623"/>
                  <a:pt x="9029" y="17562"/>
                </a:cubicBezTo>
              </a:path>
              <a:path w="3648" h="571">
                <a:moveTo>
                  <a:pt x="9525" y="17438"/>
                </a:moveTo>
                <a:cubicBezTo>
                  <a:pt x="9442" y="17621"/>
                  <a:pt x="9348" y="17788"/>
                  <a:pt x="9401" y="17959"/>
                </a:cubicBezTo>
                <a:cubicBezTo>
                  <a:pt x="9577" y="17917"/>
                  <a:pt x="9776" y="17807"/>
                  <a:pt x="9649" y="17587"/>
                </a:cubicBezTo>
                <a:cubicBezTo>
                  <a:pt x="9613" y="17525"/>
                  <a:pt x="9396" y="17537"/>
                  <a:pt x="9525" y="17537"/>
                </a:cubicBezTo>
              </a:path>
              <a:path w="3648" h="571">
                <a:moveTo>
                  <a:pt x="9971" y="17487"/>
                </a:moveTo>
                <a:cubicBezTo>
                  <a:pt x="9921" y="17604"/>
                  <a:pt x="9927" y="17736"/>
                  <a:pt x="9897" y="17859"/>
                </a:cubicBezTo>
                <a:cubicBezTo>
                  <a:pt x="9897" y="17843"/>
                  <a:pt x="9897" y="17826"/>
                  <a:pt x="9897" y="17810"/>
                </a:cubicBezTo>
              </a:path>
              <a:path w="3648" h="571">
                <a:moveTo>
                  <a:pt x="9773" y="17735"/>
                </a:moveTo>
                <a:cubicBezTo>
                  <a:pt x="9896" y="17703"/>
                  <a:pt x="10021" y="17657"/>
                  <a:pt x="10145" y="17636"/>
                </a:cubicBezTo>
              </a:path>
              <a:path w="3648" h="571">
                <a:moveTo>
                  <a:pt x="10418" y="17562"/>
                </a:moveTo>
                <a:cubicBezTo>
                  <a:pt x="10418" y="17537"/>
                  <a:pt x="10418" y="17512"/>
                  <a:pt x="10418" y="17487"/>
                </a:cubicBezTo>
                <a:cubicBezTo>
                  <a:pt x="10418" y="17639"/>
                  <a:pt x="10405" y="17783"/>
                  <a:pt x="10393" y="17934"/>
                </a:cubicBezTo>
              </a:path>
              <a:path w="3648" h="571">
                <a:moveTo>
                  <a:pt x="10691" y="17587"/>
                </a:moveTo>
                <a:cubicBezTo>
                  <a:pt x="10646" y="17766"/>
                  <a:pt x="10633" y="17812"/>
                  <a:pt x="10691" y="17983"/>
                </a:cubicBezTo>
                <a:cubicBezTo>
                  <a:pt x="10822" y="17934"/>
                  <a:pt x="11040" y="17811"/>
                  <a:pt x="10864" y="17636"/>
                </a:cubicBezTo>
                <a:cubicBezTo>
                  <a:pt x="10832" y="17604"/>
                  <a:pt x="10645" y="17587"/>
                  <a:pt x="10691" y="17587"/>
                </a:cubicBezTo>
              </a:path>
              <a:path w="3648" h="571">
                <a:moveTo>
                  <a:pt x="11162" y="17438"/>
                </a:moveTo>
                <a:cubicBezTo>
                  <a:pt x="11050" y="17653"/>
                  <a:pt x="11041" y="17674"/>
                  <a:pt x="11088" y="17909"/>
                </a:cubicBezTo>
                <a:cubicBezTo>
                  <a:pt x="11223" y="17934"/>
                  <a:pt x="11593" y="17945"/>
                  <a:pt x="11460" y="17661"/>
                </a:cubicBezTo>
                <a:cubicBezTo>
                  <a:pt x="11330" y="17531"/>
                  <a:pt x="11280" y="17489"/>
                  <a:pt x="11137" y="175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4760" y="6562800"/>
            <a:ext cx="179280" cy="241200"/>
          </a:xfrm>
          <a:custGeom>
            <a:avLst/>
            <a:gdLst/>
            <a:ahLst/>
            <a:rect l="l" t="t" r="r" b="b"/>
            <a:pathLst>
              <a:path w="497" h="671">
                <a:moveTo>
                  <a:pt x="4713" y="18331"/>
                </a:moveTo>
                <a:cubicBezTo>
                  <a:pt x="4713" y="18283"/>
                  <a:pt x="4709" y="18281"/>
                  <a:pt x="4688" y="18231"/>
                </a:cubicBezTo>
                <a:cubicBezTo>
                  <a:pt x="4567" y="18272"/>
                  <a:pt x="4469" y="18358"/>
                  <a:pt x="4415" y="18479"/>
                </a:cubicBezTo>
                <a:cubicBezTo>
                  <a:pt x="4396" y="18554"/>
                  <a:pt x="4388" y="18561"/>
                  <a:pt x="4390" y="18604"/>
                </a:cubicBezTo>
                <a:cubicBezTo>
                  <a:pt x="4512" y="18627"/>
                  <a:pt x="4734" y="18583"/>
                  <a:pt x="4787" y="18728"/>
                </a:cubicBezTo>
                <a:cubicBezTo>
                  <a:pt x="4851" y="18904"/>
                  <a:pt x="4671" y="18898"/>
                  <a:pt x="4564" y="18901"/>
                </a:cubicBezTo>
                <a:cubicBezTo>
                  <a:pt x="4473" y="18903"/>
                  <a:pt x="4382" y="18901"/>
                  <a:pt x="4291" y="1890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3800" y="6715080"/>
            <a:ext cx="144360" cy="71640"/>
          </a:xfrm>
          <a:custGeom>
            <a:avLst/>
            <a:gdLst/>
            <a:ahLst/>
            <a:rect l="l" t="t" r="r" b="b"/>
            <a:pathLst>
              <a:path w="398" h="200">
                <a:moveTo>
                  <a:pt x="5457" y="18678"/>
                </a:moveTo>
                <a:cubicBezTo>
                  <a:pt x="5569" y="18657"/>
                  <a:pt x="5665" y="18653"/>
                  <a:pt x="5779" y="18653"/>
                </a:cubicBezTo>
              </a:path>
              <a:path w="398" h="200">
                <a:moveTo>
                  <a:pt x="5655" y="18852"/>
                </a:moveTo>
                <a:cubicBezTo>
                  <a:pt x="5762" y="18830"/>
                  <a:pt x="5786" y="18822"/>
                  <a:pt x="5854" y="188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74920" y="6483240"/>
            <a:ext cx="1214280" cy="330480"/>
          </a:xfrm>
          <a:custGeom>
            <a:avLst/>
            <a:gdLst/>
            <a:ahLst/>
            <a:rect l="l" t="t" r="r" b="b"/>
            <a:pathLst>
              <a:path w="3374" h="919">
                <a:moveTo>
                  <a:pt x="6598" y="18479"/>
                </a:moveTo>
                <a:cubicBezTo>
                  <a:pt x="6741" y="18479"/>
                  <a:pt x="6835" y="18443"/>
                  <a:pt x="6970" y="18405"/>
                </a:cubicBezTo>
                <a:cubicBezTo>
                  <a:pt x="6978" y="18405"/>
                  <a:pt x="6987" y="18405"/>
                  <a:pt x="6995" y="18405"/>
                </a:cubicBezTo>
                <a:cubicBezTo>
                  <a:pt x="6995" y="18549"/>
                  <a:pt x="6957" y="18713"/>
                  <a:pt x="6921" y="18852"/>
                </a:cubicBezTo>
                <a:cubicBezTo>
                  <a:pt x="6899" y="18895"/>
                  <a:pt x="6886" y="18907"/>
                  <a:pt x="6921" y="18926"/>
                </a:cubicBezTo>
              </a:path>
              <a:path w="3374" h="919">
                <a:moveTo>
                  <a:pt x="7466" y="18430"/>
                </a:moveTo>
                <a:cubicBezTo>
                  <a:pt x="7320" y="18393"/>
                  <a:pt x="7293" y="18571"/>
                  <a:pt x="7293" y="18703"/>
                </a:cubicBezTo>
                <a:cubicBezTo>
                  <a:pt x="7312" y="18821"/>
                  <a:pt x="7291" y="18856"/>
                  <a:pt x="7367" y="18876"/>
                </a:cubicBezTo>
                <a:cubicBezTo>
                  <a:pt x="7516" y="18765"/>
                  <a:pt x="7578" y="18694"/>
                  <a:pt x="7665" y="18529"/>
                </a:cubicBezTo>
                <a:cubicBezTo>
                  <a:pt x="7563" y="18436"/>
                  <a:pt x="7196" y="18545"/>
                  <a:pt x="7317" y="18479"/>
                </a:cubicBezTo>
                <a:cubicBezTo>
                  <a:pt x="7342" y="18471"/>
                  <a:pt x="7367" y="18463"/>
                  <a:pt x="7392" y="18455"/>
                </a:cubicBezTo>
              </a:path>
              <a:path w="3374" h="919">
                <a:moveTo>
                  <a:pt x="8161" y="18306"/>
                </a:moveTo>
                <a:cubicBezTo>
                  <a:pt x="8018" y="18433"/>
                  <a:pt x="8004" y="18564"/>
                  <a:pt x="7987" y="18752"/>
                </a:cubicBezTo>
                <a:cubicBezTo>
                  <a:pt x="8167" y="18752"/>
                  <a:pt x="8398" y="18683"/>
                  <a:pt x="8334" y="18430"/>
                </a:cubicBezTo>
                <a:cubicBezTo>
                  <a:pt x="8290" y="18259"/>
                  <a:pt x="8085" y="18350"/>
                  <a:pt x="7962" y="18355"/>
                </a:cubicBezTo>
              </a:path>
              <a:path w="3374" h="919">
                <a:moveTo>
                  <a:pt x="8533" y="18554"/>
                </a:moveTo>
                <a:cubicBezTo>
                  <a:pt x="8533" y="18498"/>
                  <a:pt x="8557" y="18759"/>
                  <a:pt x="8558" y="18777"/>
                </a:cubicBezTo>
                <a:cubicBezTo>
                  <a:pt x="8558" y="18794"/>
                  <a:pt x="8558" y="18810"/>
                  <a:pt x="8558" y="18827"/>
                </a:cubicBezTo>
                <a:cubicBezTo>
                  <a:pt x="8579" y="18738"/>
                  <a:pt x="8587" y="18649"/>
                  <a:pt x="8632" y="18554"/>
                </a:cubicBezTo>
                <a:cubicBezTo>
                  <a:pt x="8684" y="18477"/>
                  <a:pt x="8703" y="18452"/>
                  <a:pt x="8781" y="18479"/>
                </a:cubicBezTo>
                <a:cubicBezTo>
                  <a:pt x="8835" y="18612"/>
                  <a:pt x="8847" y="18662"/>
                  <a:pt x="8830" y="18802"/>
                </a:cubicBezTo>
                <a:cubicBezTo>
                  <a:pt x="8794" y="18878"/>
                  <a:pt x="8815" y="18635"/>
                  <a:pt x="8830" y="18604"/>
                </a:cubicBezTo>
                <a:cubicBezTo>
                  <a:pt x="8921" y="18421"/>
                  <a:pt x="8944" y="18722"/>
                  <a:pt x="8954" y="18752"/>
                </a:cubicBezTo>
                <a:cubicBezTo>
                  <a:pt x="8977" y="18775"/>
                  <a:pt x="8981" y="18783"/>
                  <a:pt x="9004" y="18777"/>
                </a:cubicBezTo>
              </a:path>
              <a:path w="3374" h="919">
                <a:moveTo>
                  <a:pt x="9128" y="18604"/>
                </a:moveTo>
                <a:cubicBezTo>
                  <a:pt x="9128" y="18670"/>
                  <a:pt x="9128" y="18818"/>
                  <a:pt x="9128" y="18752"/>
                </a:cubicBezTo>
                <a:cubicBezTo>
                  <a:pt x="9105" y="18647"/>
                  <a:pt x="9105" y="18584"/>
                  <a:pt x="9128" y="18479"/>
                </a:cubicBezTo>
                <a:cubicBezTo>
                  <a:pt x="9303" y="18467"/>
                  <a:pt x="9304" y="18518"/>
                  <a:pt x="9376" y="18678"/>
                </a:cubicBezTo>
                <a:cubicBezTo>
                  <a:pt x="9302" y="18728"/>
                  <a:pt x="9365" y="18509"/>
                  <a:pt x="9376" y="18479"/>
                </a:cubicBezTo>
                <a:cubicBezTo>
                  <a:pt x="9384" y="18471"/>
                  <a:pt x="9393" y="18463"/>
                  <a:pt x="9401" y="18455"/>
                </a:cubicBezTo>
                <a:cubicBezTo>
                  <a:pt x="9549" y="18479"/>
                  <a:pt x="9586" y="18527"/>
                  <a:pt x="9624" y="18678"/>
                </a:cubicBezTo>
                <a:cubicBezTo>
                  <a:pt x="9624" y="18703"/>
                  <a:pt x="9624" y="18711"/>
                  <a:pt x="9624" y="18728"/>
                </a:cubicBezTo>
              </a:path>
              <a:path w="3374" h="919">
                <a:moveTo>
                  <a:pt x="9748" y="18107"/>
                </a:moveTo>
                <a:cubicBezTo>
                  <a:pt x="9761" y="18055"/>
                  <a:pt x="9798" y="18028"/>
                  <a:pt x="9847" y="18008"/>
                </a:cubicBezTo>
                <a:cubicBezTo>
                  <a:pt x="9798" y="18134"/>
                  <a:pt x="9743" y="18237"/>
                  <a:pt x="9674" y="18355"/>
                </a:cubicBezTo>
                <a:cubicBezTo>
                  <a:pt x="9644" y="18407"/>
                  <a:pt x="9617" y="18405"/>
                  <a:pt x="9649" y="18405"/>
                </a:cubicBezTo>
                <a:cubicBezTo>
                  <a:pt x="9742" y="18384"/>
                  <a:pt x="9823" y="18329"/>
                  <a:pt x="9922" y="18306"/>
                </a:cubicBezTo>
                <a:cubicBezTo>
                  <a:pt x="9947" y="18306"/>
                  <a:pt x="9955" y="18306"/>
                  <a:pt x="9971" y="183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360" y="1697040"/>
            <a:ext cx="946440" cy="384120"/>
          </a:xfrm>
          <a:custGeom>
            <a:avLst/>
            <a:gdLst/>
            <a:ahLst/>
            <a:rect l="l" t="t" r="r" b="b"/>
            <a:pathLst>
              <a:path w="2631" h="1067">
                <a:moveTo>
                  <a:pt x="9475" y="5085"/>
                </a:moveTo>
                <a:cubicBezTo>
                  <a:pt x="9513" y="5082"/>
                  <a:pt x="9786" y="5030"/>
                  <a:pt x="9798" y="5060"/>
                </a:cubicBezTo>
                <a:cubicBezTo>
                  <a:pt x="9820" y="5117"/>
                  <a:pt x="9528" y="5110"/>
                  <a:pt x="9500" y="5110"/>
                </a:cubicBezTo>
                <a:cubicBezTo>
                  <a:pt x="9584" y="5110"/>
                  <a:pt x="9672" y="5099"/>
                  <a:pt x="9748" y="5060"/>
                </a:cubicBezTo>
                <a:cubicBezTo>
                  <a:pt x="9713" y="5060"/>
                  <a:pt x="9696" y="5065"/>
                  <a:pt x="9674" y="5085"/>
                </a:cubicBezTo>
              </a:path>
              <a:path w="2631" h="1067">
                <a:moveTo>
                  <a:pt x="10096" y="4762"/>
                </a:moveTo>
                <a:cubicBezTo>
                  <a:pt x="10125" y="4942"/>
                  <a:pt x="10138" y="5083"/>
                  <a:pt x="10244" y="5234"/>
                </a:cubicBezTo>
              </a:path>
              <a:path w="2631" h="1067">
                <a:moveTo>
                  <a:pt x="10443" y="5085"/>
                </a:moveTo>
                <a:cubicBezTo>
                  <a:pt x="10487" y="5079"/>
                  <a:pt x="10659" y="5060"/>
                  <a:pt x="10666" y="5011"/>
                </a:cubicBezTo>
                <a:cubicBezTo>
                  <a:pt x="10658" y="4994"/>
                  <a:pt x="10649" y="4978"/>
                  <a:pt x="10641" y="4961"/>
                </a:cubicBezTo>
                <a:cubicBezTo>
                  <a:pt x="10484" y="4882"/>
                  <a:pt x="10395" y="4939"/>
                  <a:pt x="10418" y="5159"/>
                </a:cubicBezTo>
                <a:cubicBezTo>
                  <a:pt x="10449" y="5454"/>
                  <a:pt x="10661" y="5231"/>
                  <a:pt x="10740" y="5135"/>
                </a:cubicBezTo>
              </a:path>
              <a:path w="2631" h="1067">
                <a:moveTo>
                  <a:pt x="10765" y="5060"/>
                </a:moveTo>
                <a:cubicBezTo>
                  <a:pt x="10750" y="5156"/>
                  <a:pt x="10752" y="5190"/>
                  <a:pt x="10790" y="5283"/>
                </a:cubicBezTo>
                <a:cubicBezTo>
                  <a:pt x="10792" y="5263"/>
                  <a:pt x="10797" y="5032"/>
                  <a:pt x="10864" y="5060"/>
                </a:cubicBezTo>
                <a:cubicBezTo>
                  <a:pt x="10991" y="5114"/>
                  <a:pt x="11020" y="5257"/>
                  <a:pt x="11088" y="5358"/>
                </a:cubicBezTo>
              </a:path>
              <a:path w="2631" h="1067">
                <a:moveTo>
                  <a:pt x="11212" y="4986"/>
                </a:moveTo>
                <a:cubicBezTo>
                  <a:pt x="11166" y="5082"/>
                  <a:pt x="10996" y="5414"/>
                  <a:pt x="11261" y="5358"/>
                </a:cubicBezTo>
                <a:cubicBezTo>
                  <a:pt x="11386" y="5332"/>
                  <a:pt x="11351" y="5215"/>
                  <a:pt x="11336" y="5135"/>
                </a:cubicBezTo>
                <a:cubicBezTo>
                  <a:pt x="11376" y="5334"/>
                  <a:pt x="11453" y="5577"/>
                  <a:pt x="11311" y="5755"/>
                </a:cubicBezTo>
                <a:cubicBezTo>
                  <a:pt x="11214" y="5786"/>
                  <a:pt x="11185" y="5771"/>
                  <a:pt x="11212" y="5631"/>
                </a:cubicBezTo>
              </a:path>
              <a:path w="2631" h="1067">
                <a:moveTo>
                  <a:pt x="11485" y="4713"/>
                </a:moveTo>
                <a:cubicBezTo>
                  <a:pt x="11515" y="4892"/>
                  <a:pt x="11503" y="5242"/>
                  <a:pt x="11584" y="5407"/>
                </a:cubicBezTo>
                <a:cubicBezTo>
                  <a:pt x="11584" y="5391"/>
                  <a:pt x="11584" y="5374"/>
                  <a:pt x="11584" y="5358"/>
                </a:cubicBezTo>
              </a:path>
              <a:path w="2631" h="1067">
                <a:moveTo>
                  <a:pt x="11361" y="5110"/>
                </a:moveTo>
                <a:cubicBezTo>
                  <a:pt x="11607" y="5122"/>
                  <a:pt x="11739" y="5094"/>
                  <a:pt x="11733" y="4812"/>
                </a:cubicBezTo>
                <a:cubicBezTo>
                  <a:pt x="11725" y="4779"/>
                  <a:pt x="11716" y="4746"/>
                  <a:pt x="11708" y="4713"/>
                </a:cubicBezTo>
                <a:cubicBezTo>
                  <a:pt x="11708" y="4868"/>
                  <a:pt x="11720" y="5007"/>
                  <a:pt x="11733" y="5159"/>
                </a:cubicBezTo>
                <a:cubicBezTo>
                  <a:pt x="11721" y="4981"/>
                  <a:pt x="11764" y="4804"/>
                  <a:pt x="11956" y="5011"/>
                </a:cubicBezTo>
                <a:cubicBezTo>
                  <a:pt x="12043" y="5141"/>
                  <a:pt x="12066" y="5170"/>
                  <a:pt x="12105" y="52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1880" y="3009960"/>
            <a:ext cx="741240" cy="258840"/>
          </a:xfrm>
          <a:custGeom>
            <a:avLst/>
            <a:gdLst/>
            <a:ahLst/>
            <a:rect l="l" t="t" r="r" b="b"/>
            <a:pathLst>
              <a:path w="2059" h="721">
                <a:moveTo>
                  <a:pt x="15081" y="8359"/>
                </a:moveTo>
                <a:cubicBezTo>
                  <a:pt x="15081" y="8518"/>
                  <a:pt x="15064" y="8672"/>
                  <a:pt x="15056" y="8830"/>
                </a:cubicBezTo>
                <a:cubicBezTo>
                  <a:pt x="14984" y="8806"/>
                  <a:pt x="15033" y="8632"/>
                  <a:pt x="15081" y="8582"/>
                </a:cubicBezTo>
                <a:cubicBezTo>
                  <a:pt x="15106" y="8574"/>
                  <a:pt x="15131" y="8566"/>
                  <a:pt x="15156" y="8558"/>
                </a:cubicBezTo>
                <a:cubicBezTo>
                  <a:pt x="15302" y="8607"/>
                  <a:pt x="15337" y="8691"/>
                  <a:pt x="15354" y="8855"/>
                </a:cubicBezTo>
                <a:cubicBezTo>
                  <a:pt x="15354" y="8863"/>
                  <a:pt x="15354" y="8872"/>
                  <a:pt x="15354" y="8880"/>
                </a:cubicBezTo>
              </a:path>
              <a:path w="2059" h="721">
                <a:moveTo>
                  <a:pt x="15553" y="8607"/>
                </a:moveTo>
                <a:cubicBezTo>
                  <a:pt x="15618" y="8585"/>
                  <a:pt x="15633" y="8577"/>
                  <a:pt x="15677" y="8582"/>
                </a:cubicBezTo>
                <a:cubicBezTo>
                  <a:pt x="15640" y="8556"/>
                  <a:pt x="15546" y="8531"/>
                  <a:pt x="15503" y="8558"/>
                </a:cubicBezTo>
                <a:cubicBezTo>
                  <a:pt x="15383" y="8633"/>
                  <a:pt x="15315" y="8828"/>
                  <a:pt x="15503" y="8880"/>
                </a:cubicBezTo>
                <a:cubicBezTo>
                  <a:pt x="15682" y="8930"/>
                  <a:pt x="15722" y="8824"/>
                  <a:pt x="15801" y="8706"/>
                </a:cubicBezTo>
              </a:path>
              <a:path w="2059" h="721">
                <a:moveTo>
                  <a:pt x="15825" y="8582"/>
                </a:moveTo>
                <a:cubicBezTo>
                  <a:pt x="15863" y="8688"/>
                  <a:pt x="15890" y="8768"/>
                  <a:pt x="15900" y="8880"/>
                </a:cubicBezTo>
              </a:path>
              <a:path w="2059" h="721">
                <a:moveTo>
                  <a:pt x="15875" y="8458"/>
                </a:moveTo>
                <a:lnTo>
                  <a:pt x="15875" y="8458"/>
                </a:lnTo>
                <a:lnTo>
                  <a:pt x="15875" y="8458"/>
                </a:lnTo>
              </a:path>
              <a:path w="2059" h="721">
                <a:moveTo>
                  <a:pt x="15875" y="8458"/>
                </a:moveTo>
                <a:lnTo>
                  <a:pt x="15875" y="8458"/>
                </a:lnTo>
              </a:path>
              <a:path w="2059" h="721">
                <a:moveTo>
                  <a:pt x="16321" y="8582"/>
                </a:moveTo>
                <a:cubicBezTo>
                  <a:pt x="16244" y="8606"/>
                  <a:pt x="16010" y="8728"/>
                  <a:pt x="16148" y="8855"/>
                </a:cubicBezTo>
                <a:cubicBezTo>
                  <a:pt x="16213" y="8915"/>
                  <a:pt x="16248" y="8742"/>
                  <a:pt x="16272" y="8657"/>
                </a:cubicBezTo>
                <a:cubicBezTo>
                  <a:pt x="16272" y="8640"/>
                  <a:pt x="16272" y="8624"/>
                  <a:pt x="16272" y="8607"/>
                </a:cubicBezTo>
                <a:cubicBezTo>
                  <a:pt x="16292" y="8747"/>
                  <a:pt x="16329" y="8887"/>
                  <a:pt x="16346" y="9029"/>
                </a:cubicBezTo>
                <a:cubicBezTo>
                  <a:pt x="16346" y="9046"/>
                  <a:pt x="16346" y="9062"/>
                  <a:pt x="16346" y="9079"/>
                </a:cubicBezTo>
              </a:path>
              <a:path w="2059" h="721">
                <a:moveTo>
                  <a:pt x="16446" y="8458"/>
                </a:moveTo>
                <a:cubicBezTo>
                  <a:pt x="16476" y="8578"/>
                  <a:pt x="16491" y="8691"/>
                  <a:pt x="16520" y="8806"/>
                </a:cubicBezTo>
                <a:cubicBezTo>
                  <a:pt x="16520" y="8696"/>
                  <a:pt x="16531" y="8685"/>
                  <a:pt x="16570" y="8582"/>
                </a:cubicBezTo>
                <a:cubicBezTo>
                  <a:pt x="16627" y="8630"/>
                  <a:pt x="16686" y="8760"/>
                  <a:pt x="16743" y="8806"/>
                </a:cubicBezTo>
              </a:path>
              <a:path w="2059" h="721">
                <a:moveTo>
                  <a:pt x="16842" y="8359"/>
                </a:moveTo>
                <a:cubicBezTo>
                  <a:pt x="16842" y="8508"/>
                  <a:pt x="16852" y="8616"/>
                  <a:pt x="16892" y="8756"/>
                </a:cubicBezTo>
              </a:path>
              <a:path w="2059" h="721">
                <a:moveTo>
                  <a:pt x="16743" y="8533"/>
                </a:moveTo>
                <a:cubicBezTo>
                  <a:pt x="16861" y="8507"/>
                  <a:pt x="16970" y="8490"/>
                  <a:pt x="17090" y="84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34080" y="1009800"/>
            <a:ext cx="1492200" cy="1384200"/>
          </a:xfrm>
          <a:custGeom>
            <a:avLst/>
            <a:gdLst/>
            <a:ahLst/>
            <a:rect l="l" t="t" r="r" b="b"/>
            <a:pathLst>
              <a:path w="4143" h="3846">
                <a:moveTo>
                  <a:pt x="18852" y="5135"/>
                </a:moveTo>
                <a:cubicBezTo>
                  <a:pt x="18755" y="5425"/>
                  <a:pt x="18645" y="5745"/>
                  <a:pt x="18579" y="6052"/>
                </a:cubicBezTo>
                <a:cubicBezTo>
                  <a:pt x="18559" y="6146"/>
                  <a:pt x="18548" y="6255"/>
                  <a:pt x="18529" y="6350"/>
                </a:cubicBezTo>
                <a:cubicBezTo>
                  <a:pt x="18738" y="6307"/>
                  <a:pt x="19056" y="6229"/>
                  <a:pt x="19298" y="6201"/>
                </a:cubicBezTo>
                <a:cubicBezTo>
                  <a:pt x="19571" y="6170"/>
                  <a:pt x="19805" y="6199"/>
                  <a:pt x="20067" y="6226"/>
                </a:cubicBezTo>
                <a:cubicBezTo>
                  <a:pt x="20124" y="6232"/>
                  <a:pt x="20226" y="6278"/>
                  <a:pt x="20265" y="6226"/>
                </a:cubicBezTo>
                <a:cubicBezTo>
                  <a:pt x="20429" y="6008"/>
                  <a:pt x="20561" y="5663"/>
                  <a:pt x="20662" y="5407"/>
                </a:cubicBezTo>
                <a:cubicBezTo>
                  <a:pt x="20694" y="5327"/>
                  <a:pt x="20722" y="5218"/>
                  <a:pt x="20737" y="5135"/>
                </a:cubicBezTo>
                <a:cubicBezTo>
                  <a:pt x="20737" y="5110"/>
                  <a:pt x="20737" y="5102"/>
                  <a:pt x="20737" y="5085"/>
                </a:cubicBezTo>
                <a:cubicBezTo>
                  <a:pt x="20490" y="5085"/>
                  <a:pt x="20264" y="5115"/>
                  <a:pt x="20017" y="5135"/>
                </a:cubicBezTo>
                <a:cubicBezTo>
                  <a:pt x="19649" y="5165"/>
                  <a:pt x="19247" y="5251"/>
                  <a:pt x="18876" y="5209"/>
                </a:cubicBezTo>
                <a:cubicBezTo>
                  <a:pt x="18792" y="5188"/>
                  <a:pt x="18773" y="5187"/>
                  <a:pt x="18728" y="5159"/>
                </a:cubicBezTo>
              </a:path>
              <a:path w="4143" h="3846">
                <a:moveTo>
                  <a:pt x="19472" y="5730"/>
                </a:moveTo>
                <a:cubicBezTo>
                  <a:pt x="19419" y="5933"/>
                  <a:pt x="19381" y="6146"/>
                  <a:pt x="19323" y="6350"/>
                </a:cubicBezTo>
                <a:cubicBezTo>
                  <a:pt x="19297" y="6443"/>
                  <a:pt x="19270" y="6531"/>
                  <a:pt x="19248" y="6623"/>
                </a:cubicBezTo>
                <a:cubicBezTo>
                  <a:pt x="19487" y="6688"/>
                  <a:pt x="19771" y="6638"/>
                  <a:pt x="20017" y="6623"/>
                </a:cubicBezTo>
                <a:cubicBezTo>
                  <a:pt x="20372" y="6601"/>
                  <a:pt x="20729" y="6582"/>
                  <a:pt x="21084" y="6573"/>
                </a:cubicBezTo>
                <a:cubicBezTo>
                  <a:pt x="21161" y="6571"/>
                  <a:pt x="21193" y="6597"/>
                  <a:pt x="21258" y="6623"/>
                </a:cubicBezTo>
                <a:cubicBezTo>
                  <a:pt x="21342" y="6316"/>
                  <a:pt x="21414" y="6010"/>
                  <a:pt x="21506" y="5705"/>
                </a:cubicBezTo>
                <a:cubicBezTo>
                  <a:pt x="21524" y="5631"/>
                  <a:pt x="21532" y="5624"/>
                  <a:pt x="21530" y="5581"/>
                </a:cubicBezTo>
                <a:cubicBezTo>
                  <a:pt x="21159" y="5519"/>
                  <a:pt x="20835" y="5563"/>
                  <a:pt x="20464" y="5581"/>
                </a:cubicBezTo>
                <a:cubicBezTo>
                  <a:pt x="20243" y="5592"/>
                  <a:pt x="20012" y="5595"/>
                  <a:pt x="19794" y="5631"/>
                </a:cubicBezTo>
                <a:cubicBezTo>
                  <a:pt x="19696" y="5647"/>
                  <a:pt x="19615" y="5676"/>
                  <a:pt x="19521" y="5705"/>
                </a:cubicBezTo>
                <a:cubicBezTo>
                  <a:pt x="19397" y="5744"/>
                  <a:pt x="19354" y="5740"/>
                  <a:pt x="19323" y="5730"/>
                </a:cubicBezTo>
              </a:path>
              <a:path w="4143" h="3846">
                <a:moveTo>
                  <a:pt x="20638" y="5159"/>
                </a:moveTo>
                <a:cubicBezTo>
                  <a:pt x="20702" y="5112"/>
                  <a:pt x="20730" y="5120"/>
                  <a:pt x="20811" y="5135"/>
                </a:cubicBezTo>
                <a:cubicBezTo>
                  <a:pt x="20976" y="5166"/>
                  <a:pt x="21092" y="5262"/>
                  <a:pt x="21233" y="5333"/>
                </a:cubicBezTo>
                <a:cubicBezTo>
                  <a:pt x="21293" y="5353"/>
                  <a:pt x="21308" y="5352"/>
                  <a:pt x="21332" y="5383"/>
                </a:cubicBezTo>
              </a:path>
              <a:path w="4143" h="3846">
                <a:moveTo>
                  <a:pt x="18728" y="5184"/>
                </a:moveTo>
                <a:cubicBezTo>
                  <a:pt x="18946" y="5150"/>
                  <a:pt x="18951" y="5272"/>
                  <a:pt x="19124" y="5383"/>
                </a:cubicBezTo>
                <a:cubicBezTo>
                  <a:pt x="19259" y="5470"/>
                  <a:pt x="19421" y="5525"/>
                  <a:pt x="19571" y="5581"/>
                </a:cubicBezTo>
              </a:path>
              <a:path w="4143" h="3846">
                <a:moveTo>
                  <a:pt x="18430" y="6300"/>
                </a:moveTo>
                <a:cubicBezTo>
                  <a:pt x="18499" y="6278"/>
                  <a:pt x="18594" y="6307"/>
                  <a:pt x="18703" y="6350"/>
                </a:cubicBezTo>
                <a:cubicBezTo>
                  <a:pt x="18932" y="6440"/>
                  <a:pt x="19180" y="6514"/>
                  <a:pt x="19397" y="6623"/>
                </a:cubicBezTo>
              </a:path>
              <a:path w="4143" h="3846">
                <a:moveTo>
                  <a:pt x="20265" y="6152"/>
                </a:moveTo>
                <a:cubicBezTo>
                  <a:pt x="20422" y="6152"/>
                  <a:pt x="20586" y="6229"/>
                  <a:pt x="20737" y="6276"/>
                </a:cubicBezTo>
                <a:cubicBezTo>
                  <a:pt x="20809" y="6298"/>
                  <a:pt x="21031" y="6371"/>
                  <a:pt x="21084" y="6424"/>
                </a:cubicBezTo>
                <a:cubicBezTo>
                  <a:pt x="21106" y="6446"/>
                  <a:pt x="21131" y="6481"/>
                  <a:pt x="21183" y="6499"/>
                </a:cubicBezTo>
                <a:cubicBezTo>
                  <a:pt x="21208" y="6499"/>
                  <a:pt x="21216" y="6499"/>
                  <a:pt x="21208" y="6524"/>
                </a:cubicBezTo>
              </a:path>
              <a:path w="4143" h="3846">
                <a:moveTo>
                  <a:pt x="21258" y="2803"/>
                </a:moveTo>
                <a:cubicBezTo>
                  <a:pt x="21372" y="2832"/>
                  <a:pt x="21287" y="3049"/>
                  <a:pt x="21282" y="3125"/>
                </a:cubicBezTo>
                <a:cubicBezTo>
                  <a:pt x="21268" y="3366"/>
                  <a:pt x="21393" y="3353"/>
                  <a:pt x="21580" y="3299"/>
                </a:cubicBezTo>
                <a:cubicBezTo>
                  <a:pt x="21637" y="3280"/>
                  <a:pt x="21662" y="3289"/>
                  <a:pt x="21654" y="3249"/>
                </a:cubicBezTo>
              </a:path>
              <a:path w="4143" h="3846">
                <a:moveTo>
                  <a:pt x="21729" y="2902"/>
                </a:moveTo>
                <a:cubicBezTo>
                  <a:pt x="21795" y="2902"/>
                  <a:pt x="21861" y="2902"/>
                  <a:pt x="21927" y="2902"/>
                </a:cubicBezTo>
              </a:path>
              <a:path w="4143" h="3846">
                <a:moveTo>
                  <a:pt x="21729" y="3101"/>
                </a:moveTo>
                <a:cubicBezTo>
                  <a:pt x="21863" y="3095"/>
                  <a:pt x="21993" y="3083"/>
                  <a:pt x="22126" y="3076"/>
                </a:cubicBezTo>
              </a:path>
              <a:path w="4143" h="3846">
                <a:moveTo>
                  <a:pt x="21208" y="3746"/>
                </a:moveTo>
                <a:cubicBezTo>
                  <a:pt x="21223" y="3834"/>
                  <a:pt x="21238" y="3939"/>
                  <a:pt x="21282" y="4018"/>
                </a:cubicBezTo>
                <a:cubicBezTo>
                  <a:pt x="21324" y="4093"/>
                  <a:pt x="21371" y="3924"/>
                  <a:pt x="21406" y="3845"/>
                </a:cubicBezTo>
                <a:cubicBezTo>
                  <a:pt x="21406" y="3971"/>
                  <a:pt x="21480" y="4064"/>
                  <a:pt x="21630" y="4018"/>
                </a:cubicBezTo>
                <a:cubicBezTo>
                  <a:pt x="21781" y="3972"/>
                  <a:pt x="21800" y="3780"/>
                  <a:pt x="21654" y="3746"/>
                </a:cubicBezTo>
                <a:cubicBezTo>
                  <a:pt x="21646" y="3746"/>
                  <a:pt x="21638" y="3746"/>
                  <a:pt x="21630" y="3746"/>
                </a:cubicBezTo>
              </a:path>
              <a:path w="4143" h="3846">
                <a:moveTo>
                  <a:pt x="22027" y="3746"/>
                </a:moveTo>
                <a:cubicBezTo>
                  <a:pt x="22117" y="3723"/>
                  <a:pt x="22141" y="3715"/>
                  <a:pt x="22200" y="3721"/>
                </a:cubicBezTo>
              </a:path>
              <a:path w="4143" h="3846">
                <a:moveTo>
                  <a:pt x="22076" y="3845"/>
                </a:moveTo>
                <a:cubicBezTo>
                  <a:pt x="22171" y="3845"/>
                  <a:pt x="22214" y="3838"/>
                  <a:pt x="22275" y="3795"/>
                </a:cubicBezTo>
              </a:path>
              <a:path w="4143" h="3846">
                <a:moveTo>
                  <a:pt x="22275" y="3795"/>
                </a:moveTo>
                <a:lnTo>
                  <a:pt x="22275" y="3795"/>
                </a:lnTo>
              </a:path>
              <a:path w="4143" h="3846">
                <a:moveTo>
                  <a:pt x="21307" y="4266"/>
                </a:moveTo>
                <a:cubicBezTo>
                  <a:pt x="21340" y="4458"/>
                  <a:pt x="21400" y="4648"/>
                  <a:pt x="21431" y="4837"/>
                </a:cubicBezTo>
                <a:cubicBezTo>
                  <a:pt x="21431" y="4725"/>
                  <a:pt x="21411" y="4579"/>
                  <a:pt x="21530" y="4514"/>
                </a:cubicBezTo>
                <a:cubicBezTo>
                  <a:pt x="21694" y="4425"/>
                  <a:pt x="21868" y="4552"/>
                  <a:pt x="21903" y="4713"/>
                </a:cubicBezTo>
                <a:cubicBezTo>
                  <a:pt x="21910" y="4745"/>
                  <a:pt x="21903" y="4800"/>
                  <a:pt x="21903" y="4837"/>
                </a:cubicBezTo>
              </a:path>
              <a:path w="4143" h="3846">
                <a:moveTo>
                  <a:pt x="22299" y="4465"/>
                </a:moveTo>
                <a:cubicBezTo>
                  <a:pt x="22385" y="4449"/>
                  <a:pt x="22444" y="4424"/>
                  <a:pt x="22498" y="4465"/>
                </a:cubicBezTo>
              </a:path>
              <a:path w="4143" h="3846">
                <a:moveTo>
                  <a:pt x="22374" y="4589"/>
                </a:moveTo>
                <a:cubicBezTo>
                  <a:pt x="22489" y="4550"/>
                  <a:pt x="22502" y="4534"/>
                  <a:pt x="22572" y="4539"/>
                </a:cubicBezTo>
              </a:path>
              <a:path w="4143" h="3846">
                <a:moveTo>
                  <a:pt x="22572" y="4539"/>
                </a:moveTo>
                <a:lnTo>
                  <a:pt x="22572" y="453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3240" y="2581200"/>
            <a:ext cx="2313000" cy="347760"/>
          </a:xfrm>
          <a:custGeom>
            <a:avLst/>
            <a:gdLst/>
            <a:ahLst/>
            <a:rect l="l" t="t" r="r" b="b"/>
            <a:pathLst>
              <a:path w="6426" h="968">
                <a:moveTo>
                  <a:pt x="18405" y="7466"/>
                </a:moveTo>
                <a:cubicBezTo>
                  <a:pt x="18229" y="7372"/>
                  <a:pt x="18083" y="7435"/>
                  <a:pt x="18008" y="7640"/>
                </a:cubicBezTo>
                <a:cubicBezTo>
                  <a:pt x="17951" y="7796"/>
                  <a:pt x="18305" y="7930"/>
                  <a:pt x="18405" y="8012"/>
                </a:cubicBezTo>
                <a:cubicBezTo>
                  <a:pt x="18307" y="8146"/>
                  <a:pt x="18229" y="8136"/>
                  <a:pt x="18058" y="8136"/>
                </a:cubicBezTo>
              </a:path>
              <a:path w="6426" h="968">
                <a:moveTo>
                  <a:pt x="18554" y="7764"/>
                </a:moveTo>
                <a:cubicBezTo>
                  <a:pt x="18619" y="7739"/>
                  <a:pt x="18688" y="7708"/>
                  <a:pt x="18752" y="7689"/>
                </a:cubicBezTo>
              </a:path>
              <a:path w="6426" h="968">
                <a:moveTo>
                  <a:pt x="18479" y="7938"/>
                </a:moveTo>
                <a:cubicBezTo>
                  <a:pt x="18607" y="7938"/>
                  <a:pt x="18651" y="7937"/>
                  <a:pt x="18728" y="7888"/>
                </a:cubicBezTo>
              </a:path>
              <a:path w="6426" h="968">
                <a:moveTo>
                  <a:pt x="18728" y="7888"/>
                </a:moveTo>
                <a:lnTo>
                  <a:pt x="18728" y="7888"/>
                </a:lnTo>
              </a:path>
              <a:path w="6426" h="968">
                <a:moveTo>
                  <a:pt x="19224" y="7491"/>
                </a:moveTo>
                <a:cubicBezTo>
                  <a:pt x="19397" y="7645"/>
                  <a:pt x="19558" y="7881"/>
                  <a:pt x="19248" y="8037"/>
                </a:cubicBezTo>
                <a:cubicBezTo>
                  <a:pt x="19103" y="8058"/>
                  <a:pt x="19061" y="8090"/>
                  <a:pt x="19025" y="7987"/>
                </a:cubicBezTo>
                <a:cubicBezTo>
                  <a:pt x="19212" y="7883"/>
                  <a:pt x="19291" y="7902"/>
                  <a:pt x="19472" y="8037"/>
                </a:cubicBezTo>
              </a:path>
              <a:path w="6426" h="968">
                <a:moveTo>
                  <a:pt x="19521" y="7491"/>
                </a:moveTo>
                <a:cubicBezTo>
                  <a:pt x="19561" y="7607"/>
                  <a:pt x="19646" y="7984"/>
                  <a:pt x="19670" y="7938"/>
                </a:cubicBezTo>
              </a:path>
              <a:path w="6426" h="968">
                <a:moveTo>
                  <a:pt x="19794" y="7640"/>
                </a:moveTo>
                <a:cubicBezTo>
                  <a:pt x="19818" y="7712"/>
                  <a:pt x="19839" y="8012"/>
                  <a:pt x="19968" y="7987"/>
                </a:cubicBezTo>
                <a:cubicBezTo>
                  <a:pt x="20058" y="7928"/>
                  <a:pt x="20092" y="7895"/>
                  <a:pt x="20117" y="7813"/>
                </a:cubicBezTo>
                <a:cubicBezTo>
                  <a:pt x="20117" y="7797"/>
                  <a:pt x="20117" y="7780"/>
                  <a:pt x="20117" y="7764"/>
                </a:cubicBezTo>
                <a:cubicBezTo>
                  <a:pt x="20146" y="7868"/>
                  <a:pt x="20231" y="8005"/>
                  <a:pt x="20365" y="7913"/>
                </a:cubicBezTo>
                <a:cubicBezTo>
                  <a:pt x="20489" y="7828"/>
                  <a:pt x="20512" y="7591"/>
                  <a:pt x="20315" y="7615"/>
                </a:cubicBezTo>
                <a:cubicBezTo>
                  <a:pt x="20307" y="7623"/>
                  <a:pt x="20298" y="7632"/>
                  <a:pt x="20290" y="7640"/>
                </a:cubicBezTo>
              </a:path>
              <a:path w="6426" h="968">
                <a:moveTo>
                  <a:pt x="20712" y="7689"/>
                </a:moveTo>
                <a:cubicBezTo>
                  <a:pt x="20712" y="7741"/>
                  <a:pt x="20710" y="7739"/>
                  <a:pt x="20762" y="7739"/>
                </a:cubicBezTo>
              </a:path>
              <a:path w="6426" h="968">
                <a:moveTo>
                  <a:pt x="20737" y="7689"/>
                </a:moveTo>
                <a:cubicBezTo>
                  <a:pt x="20737" y="7730"/>
                  <a:pt x="20753" y="7653"/>
                  <a:pt x="20737" y="7615"/>
                </a:cubicBezTo>
                <a:cubicBezTo>
                  <a:pt x="20721" y="7577"/>
                  <a:pt x="20712" y="7564"/>
                  <a:pt x="20712" y="7516"/>
                </a:cubicBezTo>
                <a:cubicBezTo>
                  <a:pt x="20686" y="7594"/>
                  <a:pt x="20718" y="7773"/>
                  <a:pt x="20762" y="7863"/>
                </a:cubicBezTo>
                <a:cubicBezTo>
                  <a:pt x="20770" y="7863"/>
                  <a:pt x="20778" y="7863"/>
                  <a:pt x="20786" y="7863"/>
                </a:cubicBezTo>
              </a:path>
              <a:path w="6426" h="968">
                <a:moveTo>
                  <a:pt x="20613" y="7789"/>
                </a:moveTo>
                <a:cubicBezTo>
                  <a:pt x="20713" y="7767"/>
                  <a:pt x="20808" y="7748"/>
                  <a:pt x="20910" y="7739"/>
                </a:cubicBezTo>
              </a:path>
              <a:path w="6426" h="968">
                <a:moveTo>
                  <a:pt x="21134" y="7417"/>
                </a:moveTo>
                <a:cubicBezTo>
                  <a:pt x="21164" y="7322"/>
                  <a:pt x="21352" y="7386"/>
                  <a:pt x="21406" y="7441"/>
                </a:cubicBezTo>
                <a:cubicBezTo>
                  <a:pt x="21618" y="7658"/>
                  <a:pt x="21358" y="7970"/>
                  <a:pt x="21109" y="7962"/>
                </a:cubicBezTo>
                <a:cubicBezTo>
                  <a:pt x="21101" y="7946"/>
                  <a:pt x="21092" y="7929"/>
                  <a:pt x="21084" y="7913"/>
                </a:cubicBezTo>
                <a:cubicBezTo>
                  <a:pt x="21211" y="7853"/>
                  <a:pt x="21370" y="7786"/>
                  <a:pt x="21506" y="7888"/>
                </a:cubicBezTo>
                <a:cubicBezTo>
                  <a:pt x="21506" y="7896"/>
                  <a:pt x="21506" y="7905"/>
                  <a:pt x="21506" y="7913"/>
                </a:cubicBezTo>
              </a:path>
              <a:path w="6426" h="968">
                <a:moveTo>
                  <a:pt x="21679" y="7342"/>
                </a:moveTo>
                <a:cubicBezTo>
                  <a:pt x="21711" y="7499"/>
                  <a:pt x="21780" y="7659"/>
                  <a:pt x="21803" y="7813"/>
                </a:cubicBezTo>
                <a:cubicBezTo>
                  <a:pt x="21803" y="7821"/>
                  <a:pt x="21803" y="7830"/>
                  <a:pt x="21803" y="7838"/>
                </a:cubicBezTo>
              </a:path>
              <a:path w="6426" h="968">
                <a:moveTo>
                  <a:pt x="21878" y="7268"/>
                </a:moveTo>
                <a:cubicBezTo>
                  <a:pt x="21904" y="7440"/>
                  <a:pt x="21942" y="7616"/>
                  <a:pt x="21977" y="7789"/>
                </a:cubicBezTo>
                <a:cubicBezTo>
                  <a:pt x="21977" y="7662"/>
                  <a:pt x="22002" y="7594"/>
                  <a:pt x="22076" y="7491"/>
                </a:cubicBezTo>
                <a:cubicBezTo>
                  <a:pt x="22187" y="7528"/>
                  <a:pt x="22266" y="7603"/>
                  <a:pt x="22299" y="7739"/>
                </a:cubicBezTo>
                <a:cubicBezTo>
                  <a:pt x="22299" y="7756"/>
                  <a:pt x="22299" y="7772"/>
                  <a:pt x="22299" y="7789"/>
                </a:cubicBezTo>
              </a:path>
              <a:path w="6426" h="968">
                <a:moveTo>
                  <a:pt x="22622" y="7392"/>
                </a:moveTo>
                <a:cubicBezTo>
                  <a:pt x="22622" y="7502"/>
                  <a:pt x="22611" y="7619"/>
                  <a:pt x="22647" y="7714"/>
                </a:cubicBezTo>
              </a:path>
              <a:path w="6426" h="968">
                <a:moveTo>
                  <a:pt x="22547" y="7565"/>
                </a:moveTo>
                <a:cubicBezTo>
                  <a:pt x="22637" y="7517"/>
                  <a:pt x="22678" y="7493"/>
                  <a:pt x="22746" y="7516"/>
                </a:cubicBezTo>
              </a:path>
              <a:path w="6426" h="968">
                <a:moveTo>
                  <a:pt x="22920" y="7293"/>
                </a:moveTo>
                <a:cubicBezTo>
                  <a:pt x="22980" y="7278"/>
                  <a:pt x="23097" y="7157"/>
                  <a:pt x="23168" y="7218"/>
                </a:cubicBezTo>
                <a:cubicBezTo>
                  <a:pt x="23332" y="7359"/>
                  <a:pt x="23049" y="7672"/>
                  <a:pt x="22969" y="7764"/>
                </a:cubicBezTo>
                <a:cubicBezTo>
                  <a:pt x="22961" y="7772"/>
                  <a:pt x="22952" y="7781"/>
                  <a:pt x="22944" y="7789"/>
                </a:cubicBezTo>
                <a:cubicBezTo>
                  <a:pt x="23117" y="7734"/>
                  <a:pt x="23241" y="7706"/>
                  <a:pt x="23416" y="7739"/>
                </a:cubicBezTo>
                <a:cubicBezTo>
                  <a:pt x="23424" y="7739"/>
                  <a:pt x="23432" y="7739"/>
                  <a:pt x="23440" y="7739"/>
                </a:cubicBezTo>
              </a:path>
              <a:path w="6426" h="968">
                <a:moveTo>
                  <a:pt x="23589" y="7466"/>
                </a:moveTo>
                <a:cubicBezTo>
                  <a:pt x="23589" y="7523"/>
                  <a:pt x="23571" y="7594"/>
                  <a:pt x="23614" y="7640"/>
                </a:cubicBezTo>
                <a:cubicBezTo>
                  <a:pt x="23717" y="7751"/>
                  <a:pt x="23780" y="7551"/>
                  <a:pt x="23812" y="7491"/>
                </a:cubicBezTo>
                <a:cubicBezTo>
                  <a:pt x="23833" y="7613"/>
                  <a:pt x="23882" y="7663"/>
                  <a:pt x="24011" y="7615"/>
                </a:cubicBezTo>
                <a:cubicBezTo>
                  <a:pt x="24189" y="7549"/>
                  <a:pt x="24051" y="7442"/>
                  <a:pt x="23961" y="7392"/>
                </a:cubicBezTo>
              </a:path>
              <a:path w="6426" h="968">
                <a:moveTo>
                  <a:pt x="24160" y="7169"/>
                </a:moveTo>
                <a:cubicBezTo>
                  <a:pt x="24175" y="7275"/>
                  <a:pt x="24233" y="7493"/>
                  <a:pt x="24160" y="7590"/>
                </a:cubicBezTo>
                <a:cubicBezTo>
                  <a:pt x="24152" y="7590"/>
                  <a:pt x="24143" y="7590"/>
                  <a:pt x="24135" y="7590"/>
                </a:cubicBezTo>
                <a:cubicBezTo>
                  <a:pt x="24144" y="7449"/>
                  <a:pt x="24149" y="7428"/>
                  <a:pt x="24234" y="7317"/>
                </a:cubicBezTo>
                <a:cubicBezTo>
                  <a:pt x="24343" y="7386"/>
                  <a:pt x="24371" y="7467"/>
                  <a:pt x="24433" y="75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Area Worksheet Pizzazz D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42:17Z</dcterms:created>
  <dc:creator>ccps</dc:creator>
  <dc:description/>
  <dc:language>en-US</dc:language>
  <cp:lastModifiedBy>deanne elizabeth mcgrath</cp:lastModifiedBy>
  <dcterms:modified xsi:type="dcterms:W3CDTF">2011-06-01T18:00:05Z</dcterms:modified>
  <cp:revision>5</cp:revision>
  <dc:subject/>
  <dc:title>Unit 14</dc:title>
</cp:coreProperties>
</file>